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41.png" ContentType="image/png"/>
  <Override PartName="/ppt/media/image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20.jpeg" ContentType="image/jpeg"/>
  <Override PartName="/ppt/media/image22.jpeg" ContentType="image/jpeg"/>
  <Override PartName="/ppt/media/image16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4.jpeg" ContentType="image/jpeg"/>
  <Override PartName="/ppt/media/image40.png" ContentType="image/png"/>
  <Override PartName="/ppt/media/image18.jpeg" ContentType="image/jpeg"/>
  <Override PartName="/ppt/media/image62.jpeg" ContentType="image/jpeg"/>
  <Override PartName="/ppt/media/image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21.png" ContentType="image/pn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80.png" ContentType="image/png"/>
  <Override PartName="/ppt/media/image8.jpeg" ContentType="image/jpeg"/>
  <Override PartName="/ppt/media/image39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8.jpeg" ContentType="image/jpeg"/>
  <Override PartName="/ppt/media/image79.png" ContentType="image/png"/>
  <Override PartName="/ppt/media/image26.jpeg" ContentType="image/jpeg"/>
  <Override PartName="/ppt/media/image14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149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56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44D7-461F-41C4-AB02-77261705A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3FA3-FAC8-4A3B-A985-1DF11EE16F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FDB7-A248-4D44-B3EE-581E6C02AD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8517-D646-41CA-819A-65D0FC5F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E7B-0F04-4CB9-8E34-33C01140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BDDB-4FB7-4F9C-ABA4-9414C09E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526A-C0C8-40EA-8CCA-36C43D82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1762E-71CB-4A87-8BCC-2B49245F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96AA1-1C31-4F72-AB4C-635A997E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A4614-C747-4418-AB01-E8F23AFB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427BD-9483-40E0-9FFE-66492619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EE2BC-48C7-4690-BF25-FAA7FFDA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A1DCE-CAE0-4CF0-8A86-E4399244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F23DD-8014-46CA-9156-E5502E12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8A8-437A-4C7C-B017-57A3DA0C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7851F-E49C-4C2C-94DB-79BB6214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FFED6-3F08-4C7A-BB7C-88612838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C311B-87AC-467D-AB16-0B2E88CB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FBE79-4B7B-4EC3-9B96-E825332A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F67BD-2321-4329-A863-A8330BD9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EF2-A9C4-4B06-AE66-62450103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A6A-2DB2-40FE-A185-7A1A5262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4432-7FDC-4CD3-972F-1B75DF2B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CDBA-8A22-4D71-A459-5A00CC0C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2781-7966-4F21-BD04-98641E8E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B882-0712-4361-9B6A-F2162E07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4BFD-A74E-4A9A-AD04-E9A8C9D5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E169-2636-489C-AA24-09B303F5C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66A8-72AE-479E-8C4D-8902D7E470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pellmaster/Henry%20&amp;%20Mudge/jigword2.html" TargetMode="External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pellmaster/Henry%20&amp;%20Mudge/jigword2.html" TargetMode="External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pellmaster/Henry%20&amp;%20Mudge/jigword2.html" TargetMode="External"/><Relationship Id="rId2" Type="http://schemas.openxmlformats.org/officeDocument/2006/relationships/hyperlink" Target="http://www.scottsboro.org/~flewis/SF%20Reading%20Street/Hot%20Potatoes/Henry_&amp;_Mudge.htm" TargetMode="External"/><Relationship Id="rId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196" TargetMode="External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idsgeo.com/images/hail.jpg&amp;imgrefurl=http://www.kidsgeo.com/geography-for-kids/0119-hail.php&amp;usg=__d4Np09HuqF-5Qw-E8FIvadZf9bw=&amp;h=300&amp;w=400&amp;sz=16&amp;hl=en&amp;start=5&amp;tbnid=kFdpbAx9szhHfM:&amp;tbnh=93&amp;tbnw=124&amp;prev=/images?q=hail&amp;gbv=2&amp;hl=en" TargetMode="External"/><Relationship Id="rId2" Type="http://schemas.openxmlformats.org/officeDocument/2006/relationships/image" Target="../media/image68.jpeg"/><Relationship Id="rId3" Type="http://schemas.openxmlformats.org/officeDocument/2006/relationships/hyperlink" Target="http://images.google.com/imgres?imgurl=http://pages.cthome.net/tollandhistorical/images/JailCell2.jpg&amp;imgrefurl=http://pages.cthome.net/tollandhistorical/Jail.htm&amp;usg=__Olgm58y6X6ft7W5MSYsvOuEbPpE=&amp;h=960&amp;w=1280&amp;sz=130&amp;hl=en&amp;start=1&amp;tbnid=AqzmnPSwJXY09M:&amp;tbnh=113&amp;tbnw=150&amp;prev=/images?q=jail&amp;gbv=2&amp;hl=en" TargetMode="External"/><Relationship Id="rId4" Type="http://schemas.openxmlformats.org/officeDocument/2006/relationships/image" Target="../media/image69.jpeg"/><Relationship Id="rId5" Type="http://schemas.openxmlformats.org/officeDocument/2006/relationships/hyperlink" Target="http://images.google.com/imgres?imgurl=http://www.funkytrend.com/wp-content/uploads/2009/02/nail_art1.jpg&amp;imgrefurl=http://www.funkytrend.com/funky-nail-art/&amp;usg=__I0aVplYaqEH-1ryHvEEhctl2uCQ=&amp;h=327&amp;w=363&amp;sz=58&amp;hl=en&amp;start=11&amp;tbnid=lQ0r-694RghWhM:&amp;tbnh=109&amp;tbnw=121&amp;prev=/images?q=nail&amp;gbv=2&amp;hl=en" TargetMode="External"/><Relationship Id="rId6" Type="http://schemas.openxmlformats.org/officeDocument/2006/relationships/image" Target="../media/image70.jpeg"/><Relationship Id="rId7" Type="http://schemas.openxmlformats.org/officeDocument/2006/relationships/hyperlink" Target="http://images.google.com/imgres?imgurl=http://www.willishenry.com/auctions/04/shaker04/images/46%2520yellow%2520pail.jpg&amp;imgrefurl=http://www.willishenry.com/auctions/04/shaker04/catalog.htm&amp;usg=__WPHP6_kT_cSYUdbw0ZqTpw_dNN0=&amp;h=432&amp;w=320&amp;sz=31&amp;hl=en&amp;start=4&amp;tbnid=ZLqZhGkVEuiHwM:&amp;tbnh=126&amp;tbnw=93&amp;prev=/images?q=pail&amp;gbv=2&amp;hl=en" TargetMode="External"/><Relationship Id="rId8" Type="http://schemas.openxmlformats.org/officeDocument/2006/relationships/image" Target="../media/image71.jpeg"/><Relationship Id="rId9" Type="http://schemas.openxmlformats.org/officeDocument/2006/relationships/hyperlink" Target="http://images.google.com/imgres?imgurl=http://www.nt.gov.au/aarc/news/photolib/Kath_ballast_stockpile-rail.jpg&amp;imgrefurl=http://www.nt.gov.au/aarc/news/photolib/photos.html&amp;usg=__GcBQ-jdDlNrNSQaoJJXe3FCLvAc=&amp;h=1536&amp;w=2048&amp;sz=2131&amp;hl=en&amp;start=9&amp;tbnid=04o1KdllzW7zqM:&amp;tbnh=113&amp;tbnw=150&amp;prev=/images?q=rail&amp;gbv=2&amp;hl=en" TargetMode="External"/><Relationship Id="rId10" Type="http://schemas.openxmlformats.org/officeDocument/2006/relationships/image" Target="../media/image72.jpeg"/><Relationship Id="rId11" Type="http://schemas.openxmlformats.org/officeDocument/2006/relationships/hyperlink" Target="http://images.google.com/imgres?imgurl=http://realestatetomato.typepad.com/photos/uncategorized/long_tail.jpg&amp;imgrefurl=http://realestatetomato.typepad.com/the_real_estate_tomato/2006/07/riding_the_long.html&amp;usg=__9EFDBhSo9zViPs7HSewPNclJ0T0=&amp;h=538&amp;w=356&amp;sz=31&amp;hl=en&amp;start=1&amp;tbnid=gI_ROVsuYnBp6M:&amp;tbnh=132&amp;tbnw=87&amp;prev=/images?q=tail&amp;gbv=2&amp;hl=en" TargetMode="External"/><Relationship Id="rId12" Type="http://schemas.openxmlformats.org/officeDocument/2006/relationships/image" Target="../media/image73.jpeg"/><Relationship Id="rId13" Type="http://schemas.openxmlformats.org/officeDocument/2006/relationships/hyperlink" Target="http://images.google.com/imgres?imgurl=http://api.ning.com/files/lr7HeOsCYoLYyyNqoOEZy0EQtSfj5hOmaxZtE4aug2KiOmz5VOaojkuWM4VwN2piXWf*ipIzUYjA8rDkDyPtLILZmKtdEU-b/sailinginbrevard.jpg&amp;imgrefurl=http://www.boatbrevard.com/groups&amp;usg=__A2LNslB8DTMSWOBKgi_D72i-teY=&amp;h=400&amp;w=450&amp;sz=48&amp;hl=en&amp;start=6&amp;tbnid=XOIkES3njcvZ3M:&amp;tbnh=113&amp;tbnw=127&amp;prev=/images?q=sail&amp;gbv=2&amp;hl=en" TargetMode="External"/><Relationship Id="rId14" Type="http://schemas.openxmlformats.org/officeDocument/2006/relationships/image" Target="../media/image74.jpeg"/><Relationship Id="rId15" Type="http://schemas.openxmlformats.org/officeDocument/2006/relationships/hyperlink" Target="http://images.google.com/imgres?imgurl=http://i1.treknature.com/photos/93/quail5-16-04e.jpg&amp;imgrefurl=http://www.treknature.com/gallery/North_America/United_States/photo553.htm&amp;usg=__wEU3qSrLx-ziDq-_nd6LUS4YfDg=&amp;h=562&amp;w=800&amp;sz=171&amp;hl=en&amp;start=2&amp;tbnid=g-y5qUHi5Uef4M:&amp;tbnh=100&amp;tbnw=143&amp;prev=/images?q=quail&amp;gbv=2&amp;hl=en" TargetMode="External"/><Relationship Id="rId16" Type="http://schemas.openxmlformats.org/officeDocument/2006/relationships/image" Target="../media/image75.jpeg"/><Relationship Id="rId17" Type="http://schemas.openxmlformats.org/officeDocument/2006/relationships/hyperlink" Target="http://images.google.com/imgres?imgurl=http://www.naturephoto-cz.com/photos/others/roman-snail-21973.jpg&amp;imgrefurl=http://blenderartists.org/forum/showthread.php?p=1310465&amp;usg=__W04cEErW1cjuAl8WYcSw5STyrgk=&amp;h=416&amp;w=600&amp;sz=47&amp;hl=en&amp;start=3&amp;tbnid=SoehXG6MqMYskM:&amp;tbnh=94&amp;tbnw=135&amp;prev=/images?q=snail&amp;gbv=2&amp;hl=en" TargetMode="External"/><Relationship Id="rId18" Type="http://schemas.openxmlformats.org/officeDocument/2006/relationships/image" Target="../media/image76.jpeg"/><Relationship Id="rId19" Type="http://schemas.openxmlformats.org/officeDocument/2006/relationships/image" Target="../media/image77.jpeg"/><Relationship Id="rId20" Type="http://schemas.openxmlformats.org/officeDocument/2006/relationships/image" Target="../media/image78.jpeg"/><Relationship Id="rId2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ortunecity.com/millennium/rollingacres/1250/nature/n10b-n-andromeda-galaxy-495BG.jpg&amp;imgrefurl=http://www.fortunecity.com/millennium/rollingacres/1250/nature/nature-10.html&amp;usg=__AdJjwkroRsb4OJ3ed8zGKvmPJuw=&amp;h=477&amp;w=720&amp;sz=112&amp;hl=EN&amp;start=2&amp;tbnid=qFRl0gqzBKDClM:&amp;tbnh=93&amp;tbnw=140&amp;prev=/images?q=galaxy&amp;gbv=2&amp;hl=E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esamultimedia.esa.int/images/Science/galaxy_NGC_pic23941.jpg&amp;imgrefurl=http://www.esa.int/esaKIDSen/SEMY06WJD1E_OurUniverse_1.html&amp;usg=__QJK3Uq4i-BnP9kiC-UOYK1qsUB0=&amp;h=876&amp;w=1199&amp;sz=1349&amp;hl=EN&amp;start=3&amp;tbnid=ZPQTUwT9-yqJcM:&amp;tbnh=110&amp;tbnw=150&amp;prev=/images?q=galaxy&amp;gbv=2&amp;hl=E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shareme.com/images/large/Free_Galaxy_Screensaver-2579.jpg&amp;imgrefurl=http://shareme.com/screenshot/free-galaxy-screensaver.html&amp;usg=__FisUBo4IlcnS9rUjR7OsG-UQwKo=&amp;h=480&amp;w=640&amp;sz=45&amp;hl=EN&amp;start=4&amp;tbnid=XbqDlWS221BgyM:&amp;tbnh=103&amp;tbnw=137&amp;prev=/images?q=galaxy&amp;gbv=2&amp;hl=EN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iaaa.org/pulsar/pictures/mayjun02/ring-galaxy-j-tuccr.jpg&amp;imgrefurl=http://iaaa.org/pulsar/may02.html&amp;usg=__4EL-ycYXHsjJ2zzLBe4R0xyVq6M=&amp;h=300&amp;w=450&amp;sz=15&amp;hl=EN&amp;start=7&amp;tbnid=WdPXPHMOHwrj6M:&amp;tbnh=85&amp;tbnw=127&amp;prev=/images?q=galaxy&amp;gbv=2&amp;hl=E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nasa.gov/centers/goddard/images/content/96664main_galaxy_string_4.jpg&amp;imgrefurl=http://gufodotto.blogspot.com/2007/06/galaxy-dust.html&amp;usg=__G1yquTHJgfqKFxObNRacO1LFSBk=&amp;h=2430&amp;w=3600&amp;sz=2414&amp;hl=EN&amp;start=8&amp;tbnid=lxqZz9MdZ0m7gM:&amp;tbnh=101&amp;tbnw=150&amp;prev=/images?q=galaxy&amp;gbv=2&amp;hl=EN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images.google.com/imgres?imgurl=http://www.fortunecity.com/millennium/rollingacres/1250/nature/n09j-n-galaxy-NGC7742BG.jpg&amp;imgrefurl=http://www.fortunecity.com/millennium/rollingacres/1250/nature/nature-09.html&amp;usg=__WataR8H-4m5E-_pBDQwMV8R8a54=&amp;h=900&amp;w=720&amp;sz=111&amp;hl=EN&amp;start=49&amp;tbnid=Ui_DnYT2H3ELNM:&amp;tbnh=146&amp;tbnw=117&amp;prev=/images?q=galaxy&amp;start=40&amp;gbv=2&amp;ndsp=20&amp;hl=EN&amp;sa=N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images.google.com/imgres?imgurl=http://www.fpsoftlab.com/images/screenshots/galaxy-640x480-1.jpg&amp;imgrefurl=http://www.exefind.com/galaxy-3d-space-tour-P8068.html&amp;usg=__Mh2LAEgyybna_Ub1RciVZmZuagk=&amp;h=480&amp;w=640&amp;sz=45&amp;hl=EN&amp;start=51&amp;tbnid=um06uhP9XIPOqM:&amp;tbnh=103&amp;tbnw=137&amp;prev=/images?q=galaxy&amp;start=40&amp;gbv=2&amp;ndsp=20&amp;hl=EN&amp;sa=N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images.google.com/imgres?imgurl=http://www.fortunecity.com/millennium/rollingacres/1250/nature/n10e-n-sombrero-galaxy-95_72BG.jpg&amp;imgrefurl=http://www.fortunecity.com/millennium/rollingacres/1250/nature/nature-10.html&amp;usg=__huMrKLbPwaaLRvz0-FseQ9C2_mA=&amp;h=397&amp;w=720&amp;sz=52&amp;hl=EN&amp;start=59&amp;tbnid=rBP5ah6kawch2M:&amp;tbnh=77&amp;tbnw=140&amp;prev=/images?q=galaxy&amp;start=40&amp;gbv=2&amp;ndsp=20&amp;hl=EN&amp;sa=N" TargetMode="External"/><Relationship Id="rId16" Type="http://schemas.openxmlformats.org/officeDocument/2006/relationships/image" Target="../media/image9.jpeg"/><Relationship Id="rId17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cottcharmonphotography.com/photos/wildlife/wildlife-main.jpg&amp;imgrefurl=http://www.scottcharmonphotography.com/gal_wildlife.asp&amp;usg=__0WCLMYqaJQdYaNZ43-wtF6sDWlg=&amp;h=354&amp;w=495&amp;sz=19&amp;hl=EN&amp;start=20&amp;tbnid=OVgxrRAj4P75KM:&amp;tbnh=93&amp;tbnw=130&amp;prev=/images?q=wildlife&amp;gbv=2&amp;hl=E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outback-australia-travel-secrets.com/image-files/australian-wildlife-pictures-2.jpg&amp;imgrefurl=http://www.outback-australia-travel-secrets.com/australian-wildlife.html&amp;usg=__WogdeBvUHdw2MYFRx9GK6c6YgGQ=&amp;h=363&amp;w=500&amp;sz=39&amp;hl=EN&amp;start=11&amp;tbnid=oDPB7MGea5jK2M:&amp;tbnh=94&amp;tbnw=130&amp;prev=/images?q=wildlife&amp;gbv=2&amp;hl=E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www.usbr.gov/mp/ccao/field_offices/new_melones/images/wildlife_bald_eagle.jpg&amp;imgrefurl=http://www.usbr.gov/mp/ccao/field_offices/new_melones/wildlife.html&amp;usg=__6EKxSJ1gdfnCwEXBE2dQplSXUjY=&amp;h=1024&amp;w=683&amp;sz=129&amp;hl=EN&amp;start=5&amp;tbnid=SNAIdcdyCraMYM:&amp;tbnh=150&amp;tbnw=100&amp;prev=/images?q=wildlife&amp;gbv=2&amp;hl=EN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com/imgres?imgurl=http://www.whale-images.com/data/media/2/wildlife-photos_9.jpg&amp;imgrefurl=http://www.whale-images.com/wildlife-photos-9-pictures.htm&amp;usg=__i8MOMrRaxlkahi0Mj4byqRU_pM8=&amp;h=312&amp;w=468&amp;sz=29&amp;hl=EN&amp;start=3&amp;tbnid=9WWO5sOAwvp7-M:&amp;tbnh=85&amp;tbnw=128&amp;prev=/images?q=wildlife&amp;gbv=2&amp;hl=EN" TargetMode="External"/><Relationship Id="rId8" Type="http://schemas.openxmlformats.org/officeDocument/2006/relationships/image" Target="../media/image13.jpeg"/><Relationship Id="rId9" Type="http://schemas.openxmlformats.org/officeDocument/2006/relationships/hyperlink" Target="http://images.google.com/imgres?imgurl=http://www.tropicalisland.de/CPT%2520Little%2520Karoo%2520Oudtshoorn%2520Cango%2520Wildlife%2520Ranch%2520Cheetahland%2520lion%2520b.jpg&amp;imgrefurl=http://www.tropicalisland.de/south_africa_garden_route.html&amp;usg=__Np-Wb5Lf7fcxFo7p3KZReDKxp6c=&amp;h=864&amp;w=1341&amp;sz=217&amp;hl=EN&amp;start=10&amp;tbnid=ULTRgALTGXqbnM:&amp;tbnh=97&amp;tbnw=150&amp;prev=/images?q=wildlife&amp;gbv=2&amp;hl=EN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http://images.google.com/imgres?imgurl=http://www.keralagreenery.org/kerala-wildlife-squirell.jpg&amp;imgrefurl=http://www.keralagreenery.org/wildlife.html&amp;usg=__UQGcTWHn2CVwcbqSqlpePBKprMc=&amp;h=310&amp;w=477&amp;sz=53&amp;hl=EN&amp;start=16&amp;tbnid=o7QYEOah_aKhpM:&amp;tbnh=84&amp;tbnw=129&amp;prev=/images?q=wildlife&amp;gbv=2&amp;hl=EN" TargetMode="External"/><Relationship Id="rId12" Type="http://schemas.openxmlformats.org/officeDocument/2006/relationships/image" Target="../media/image15.jpeg"/><Relationship Id="rId13" Type="http://schemas.openxmlformats.org/officeDocument/2006/relationships/hyperlink" Target="http://images.google.com/imgres?imgurl=http://www.pep.bc.ca/hazard_preparedness/wildlife_info_page_photo-05-large.jpg&amp;imgrefurl=http://www.pep.bc.ca/hazard_preparedness/Wildlife_Interface_Information.html&amp;usg=__0tjI2OMGDHGsCm30MkQLak9RW94=&amp;h=424&amp;w=658&amp;sz=26&amp;hl=EN&amp;start=25&amp;tbnid=xkc5w3c6xxJOrM:&amp;tbnh=89&amp;tbnw=138&amp;prev=/images?q=wildlife&amp;start=20&amp;gbv=2&amp;ndsp=20&amp;hl=EN&amp;sa=N" TargetMode="External"/><Relationship Id="rId14" Type="http://schemas.openxmlformats.org/officeDocument/2006/relationships/image" Target="../media/image16.jpeg"/><Relationship Id="rId15" Type="http://schemas.openxmlformats.org/officeDocument/2006/relationships/hyperlink" Target="http://images.google.com/imgres?imgurl=http://i1.treknature.com/photos/695/poland_wildlife_a.jpg&amp;imgrefurl=http://www.treknature.com/gallery/Europe/Poland/photo20478.htm&amp;usg=__Ic40vcNB12qWqgZa3Ulf2XQ2GCw=&amp;h=533&amp;w=800&amp;sz=99&amp;hl=EN&amp;start=29&amp;tbnid=Id6cxoNaECQvZM:&amp;tbnh=95&amp;tbnw=143&amp;prev=/images?q=wildlife&amp;start=20&amp;gbv=2&amp;ndsp=20&amp;hl=EN&amp;sa=N" TargetMode="External"/><Relationship Id="rId16" Type="http://schemas.openxmlformats.org/officeDocument/2006/relationships/image" Target="../media/image17.jpeg"/><Relationship Id="rId17" Type="http://schemas.openxmlformats.org/officeDocument/2006/relationships/hyperlink" Target="http://images.google.com/imgres?imgurl=http://www.hickerphoto.com/data/media/166/wildlife-photo-polar-bear_29386.jpg&amp;imgrefurl=http://www.hickerphoto.com/wildlife-photo-polar-bear-hudson-bay-29386-tile.htm&amp;usg=__LKqf2iIq7of6xj_kj_TI9dYHQTI=&amp;h=312&amp;w=468&amp;sz=32&amp;hl=EN&amp;start=33&amp;tbnid=Of-jAoxNl_yATM:&amp;tbnh=85&amp;tbnw=128&amp;prev=/images?q=wildlife&amp;start=20&amp;gbv=2&amp;ndsp=20&amp;hl=EN&amp;sa=N" TargetMode="External"/><Relationship Id="rId18" Type="http://schemas.openxmlformats.org/officeDocument/2006/relationships/image" Target="../media/image18.jpeg"/><Relationship Id="rId19" Type="http://schemas.openxmlformats.org/officeDocument/2006/relationships/hyperlink" Target="http://images.google.com/imgres?imgurl=http://jacksonholewildlifetours.com/journal/wp-content/uploads/2008/05/wildlife-red-fox.jpg&amp;imgrefurl=http://jacksonholewildlifetours.com/journal/?p=34&amp;usg=__U7gcsM9mtVbxzF4ghE7sE3SUkas=&amp;h=598&amp;w=900&amp;sz=824&amp;hl=EN&amp;start=38&amp;tbnid=G5AikREdOzQSKM:&amp;tbnh=97&amp;tbnw=146&amp;prev=/images?q=wildlife&amp;start=20&amp;gbv=2&amp;ndsp=20&amp;hl=EN&amp;sa=N" TargetMode="External"/><Relationship Id="rId20" Type="http://schemas.openxmlformats.org/officeDocument/2006/relationships/image" Target="../media/image19.jpeg"/><Relationship Id="rId21" Type="http://schemas.openxmlformats.org/officeDocument/2006/relationships/hyperlink" Target="http://images.google.com/imgres?imgurl=http://african-safari-and-travel-advisor.com/images/young-african-wildlife-safari-2-young-giraffe-w-michael-poliza-b.jpg&amp;imgrefurl=http://www.african-safari-and-travel-advisor.com/south-africa-wildlife.html&amp;usg=__StyK16TdODdverTB2dB7t8iFC-c=&amp;h=308&amp;w=460&amp;sz=44&amp;hl=EN&amp;start=56&amp;tbnid=TOEx1i8zudbq0M:&amp;tbnh=86&amp;tbnw=128&amp;prev=/images?q=wildlife&amp;start=40&amp;gbv=2&amp;ndsp=20&amp;hl=EN&amp;sa=N" TargetMode="External"/><Relationship Id="rId22" Type="http://schemas.openxmlformats.org/officeDocument/2006/relationships/image" Target="../media/image20.jpeg"/><Relationship Id="rId2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196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ppinappi.com/cot%2520COVER%2520JESSIE%2520MAHAN2.JPG&amp;imgrefurl=http://www.happinappi.com/cot.html&amp;usg=__3BW6RaD5oOOUXPrYsVhB9iIZY9U=&amp;h=336&amp;w=448&amp;sz=33&amp;hl=EN&amp;start=5&amp;tbnid=l7nEk1wz_8nx0M:&amp;tbnh=95&amp;tbnw=127&amp;prev=/images?q=cot&amp;gbv=2&amp;hl=EN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necktieaficionado.com/TieOutlinePolkaDots.gif&amp;imgrefurl=http://www.necktieaficionado.com/Necktie-Patterns.html&amp;usg=__u9wbpMUT33S4zexStQakKl27wO8=&amp;h=584&amp;w=320&amp;sz=16&amp;hl=EN&amp;start=18&amp;tbnid=5vNU1xJ_0v1zpM:&amp;tbnh=135&amp;tbnw=74&amp;prev=/images?q=dot&amp;gbv=2&amp;hl=EN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images.google.com/imgres?imgurl=http://www.thegardensuperstore.co.uk/acatalog/Pegaso_Bell_Pot-Large.gif&amp;imgrefurl=http://www.thegardensuperstore.co.uk/acatalog/Patio_Pots.html&amp;usg=__0doz5wQslccwhAfv37WxnrPtAuI=&amp;h=301&amp;w=304&amp;sz=61&amp;hl=EN&amp;start=9&amp;tbnid=F3MxQm8o0DOYKM:&amp;tbnh=115&amp;tbnw=116&amp;prev=/images?q=pot&amp;gbv=2&amp;hl=EN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images.google.com/imgres?imgurl=http://www.ci.encinitas.ca.us/NR/rdonlyres/A323CD4E-A6E8-474E-A5B3-07120394B426/0/TinyTotArtBestCopy.jpg&amp;imgrefurl=http://www.ci.encinitas.ca.us/CE/Government/CityD/ParksAndRecreation/Recreation+Programs/TinyTotsPrograms/&amp;usg=__j4xAgoaO9WXooQHaW1mbZ2pvlVA=&amp;h=754&amp;w=912&amp;sz=723&amp;hl=EN&amp;start=6&amp;tbnid=Fkmpbweggd84WM:&amp;tbnh=122&amp;tbnw=147&amp;prev=/images?q=tot&amp;gbv=2&amp;hl=EN" TargetMode="External"/><Relationship Id="rId8" Type="http://schemas.openxmlformats.org/officeDocument/2006/relationships/image" Target="../media/image25.jpeg"/><Relationship Id="rId9" Type="http://schemas.openxmlformats.org/officeDocument/2006/relationships/hyperlink" Target="http://images.google.com/imgres?imgurl=http://www.diyhappy.com/wp-content/images/Knot.jpg&amp;imgrefurl=http://www.diyhappy.com/all-knotted-up&amp;usg=__JNfW-eqkEo-0dk8PkiDHucpZDOo=&amp;h=850&amp;w=690&amp;sz=142&amp;hl=EN&amp;start=1&amp;tbnid=VcebH-N1L84DYM:&amp;tbnh=145&amp;tbnw=118&amp;prev=/images?q=knot&amp;gbv=2&amp;hl=EN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images.google.com/imgres?imgurl=http://www.dreamstime.com/ink-blot-thumb1846843.jpg&amp;imgrefurl=http://www.dreamstime.com/ink-blot-image1846843&amp;usg=__Si0pB61JwPpidZpdCllizmdYlk0=&amp;h=300&amp;w=300&amp;sz=31&amp;hl=EN&amp;start=7&amp;tbnid=XUzoRLNXaqFt_M:&amp;tbnh=116&amp;tbnw=116&amp;prev=/images?q=blot&amp;gbv=2&amp;hl=EN" TargetMode="External"/><Relationship Id="rId12" Type="http://schemas.openxmlformats.org/officeDocument/2006/relationships/image" Target="../media/image27.jpeg"/><Relationship Id="rId13" Type="http://schemas.openxmlformats.org/officeDocument/2006/relationships/hyperlink" Target="http://images.google.com/imgres?imgurl=http://kska.org/wp-content/uploads/2008/08/blood-clot1.jpg&amp;imgrefurl=http://kska.org/2008/08/11/line-one-deep-vein-thrombosis/&amp;usg=__VDQlVc6nXUF_hB7ROxWIV8PjNtI=&amp;h=600&amp;w=800&amp;sz=270&amp;hl=EN&amp;start=2&amp;tbnid=P5Ggf7fcLicHFM:&amp;tbnh=107&amp;tbnw=143&amp;prev=/images?q=clot&amp;gbv=2&amp;hl=EN" TargetMode="External"/><Relationship Id="rId14" Type="http://schemas.openxmlformats.org/officeDocument/2006/relationships/image" Target="../media/image28.jpeg"/><Relationship Id="rId15" Type="http://schemas.openxmlformats.org/officeDocument/2006/relationships/hyperlink" Target="http://images.google.com/imgres?imgurl=http://farm4.static.flickr.com/3040/3079839037_80be7e8e27.jpg&amp;imgrefurl=http://mataciahistory.wordpress.com/the-lehrerbash-family-introduction/3-joseph-lehrer-and-his-descendants/&amp;usg=__Crh5H_fypTLMBGxAaTzCm8Q7WMA=&amp;h=288&amp;w=500&amp;sz=162&amp;hl=EN&amp;start=8&amp;tbnid=bVw3o9DESmDBWM:&amp;tbnh=75&amp;tbnw=130&amp;prev=/images?q=cemetary+plot&amp;gbv=2&amp;hl=EN" TargetMode="External"/><Relationship Id="rId16" Type="http://schemas.openxmlformats.org/officeDocument/2006/relationships/image" Target="../media/image29.jpeg"/><Relationship Id="rId17" Type="http://schemas.openxmlformats.org/officeDocument/2006/relationships/hyperlink" Target="http://images.google.com/imgres?imgurl=http://www.hothardware.com/reviews/images/tualatin/pci_slot.jpg&amp;imgrefurl=http://forums.guru3d.com/showthread.php?t=237103&amp;usg=__soTh95ti3CxMOtlgn4TU_DhJ5SM=&amp;h=480&amp;w=525&amp;sz=291&amp;hl=EN&amp;start=3&amp;tbnid=i185R1z-ArntXM:&amp;tbnh=121&amp;tbnw=132&amp;prev=/images?q=slot&amp;gbv=2&amp;ndsp=20&amp;hl=EN&amp;sa=N" TargetMode="External"/><Relationship Id="rId18" Type="http://schemas.openxmlformats.org/officeDocument/2006/relationships/image" Target="../media/image30.jpeg"/><Relationship Id="rId19" Type="http://schemas.openxmlformats.org/officeDocument/2006/relationships/hyperlink" Target="http://images.google.com/imgres?imgurl=http://www.seldomcreek.com/LittleStream/MorganYRX/MorganYR-trot-cute.jpg&amp;imgrefurl=http://www.seldomcreek.com/LittleStream/MorganYRX/&amp;usg=__waBhv9nsff8lj5KUAHjgWzTX9mY=&amp;h=431&amp;w=582&amp;sz=97&amp;hl=EN&amp;start=17&amp;tbnid=AhiaQSl78pRCtM:&amp;tbnh=99&amp;tbnw=134&amp;prev=/images?q=trot&amp;gbv=2&amp;hl=EN" TargetMode="External"/><Relationship Id="rId20" Type="http://schemas.openxmlformats.org/officeDocument/2006/relationships/image" Target="../media/image31.jpeg"/><Relationship Id="rId2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Henry%20&amp;%20Mudge.htm" TargetMode="External"/><Relationship Id="rId2" Type="http://schemas.openxmlformats.org/officeDocument/2006/relationships/hyperlink" Target="http://www.scottsboro.org/~flewis/spellmaster/Henry%20&amp;%20Mudge/jigword2.html" TargetMode="External"/><Relationship Id="rId3" Type="http://schemas.openxmlformats.org/officeDocument/2006/relationships/hyperlink" Target="http://www.scottsboro.org/~flewis/spellmaster/Henry%20&amp;%20Mudge/matchword2.html" TargetMode="External"/><Relationship Id="rId4" Type="http://schemas.openxmlformats.org/officeDocument/2006/relationships/hyperlink" Target="http://www.scottsboro.org/~flewis/spellmaster/Henry%20&amp;%20Mudge/speedword2.html" TargetMode="External"/><Relationship Id="rId5" Type="http://schemas.openxmlformats.org/officeDocument/2006/relationships/hyperlink" Target="http://www.scottsboro.org/~flewis/spellmaster/Henry%20&amp;%20Mudge/wordsearch2.html" TargetMode="External"/><Relationship Id="rId6" Type="http://schemas.openxmlformats.org/officeDocument/2006/relationships/hyperlink" Target="http://www.scottsboro.org/~flewis/spellmaster/Henry%20&amp;%20Mudge/wordweb.html" TargetMode="External"/><Relationship Id="rId7" Type="http://schemas.openxmlformats.org/officeDocument/2006/relationships/hyperlink" Target="http://www.spellingcity.com/index.php?option=com_spellcity&amp;task=viewList&amp;listId=825832" TargetMode="External"/><Relationship Id="rId8" Type="http://schemas.openxmlformats.org/officeDocument/2006/relationships/hyperlink" Target="http://www.spellingcity.com/index.php?option=com_spellcity&amp;task=viewList&amp;listId=825837" TargetMode="External"/><Relationship Id="rId9" Type="http://schemas.openxmlformats.org/officeDocument/2006/relationships/hyperlink" Target="http://www.scottsboro.org/~flewis/spellmaster/Henry%20&amp;%20Mudge%20Spelling%20Words/speedword2.html" TargetMode="External"/><Relationship Id="rId10" Type="http://schemas.openxmlformats.org/officeDocument/2006/relationships/hyperlink" Target="http://www.scottsboro.org/~flewis/spellmaster/Henry%20&amp;%20Mudge%20Spelling%20Words/wordweb.html" TargetMode="External"/><Relationship Id="rId11" Type="http://schemas.openxmlformats.org/officeDocument/2006/relationships/hyperlink" Target="http://www.quia.com/ba/108260.html" TargetMode="External"/><Relationship Id="rId12" Type="http://schemas.openxmlformats.org/officeDocument/2006/relationships/hyperlink" Target="http://www.spellingcity.com/index.php?option=com_spellcity&amp;Itemid=122&amp;task=viewList&amp;listId=354196" TargetMode="External"/><Relationship Id="rId13" Type="http://schemas.openxmlformats.org/officeDocument/2006/relationships/hyperlink" Target="http://www.scottsboro.org/~flewis/SF%20Reading%20Street/Hot%20Potatoes/Henry_&amp;_Mudge.htm" TargetMode="External"/><Relationship Id="rId14" Type="http://schemas.openxmlformats.org/officeDocument/2006/relationships/hyperlink" Target="http://www.scottsboro.org/~flewis/SF%20Reading%20Street/Hot%20Potatoes/Henry_&amp;_Mudge.htm" TargetMode="External"/><Relationship Id="rId15" Type="http://schemas.openxmlformats.org/officeDocument/2006/relationships/hyperlink" Target="http://www.spellingcity.com/index.php?option=com_spellcity&amp;task=viewList&amp;listId=825842" TargetMode="External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.syracuse.com/storefront/2008/03/large_king.jpg&amp;imgrefurl=http://www.syracuse.com/business/index.ssf/2008/03/30-week/&amp;usg=__M1GiCyzrJsInQWTFl973qOOV8V8=&amp;h=334&amp;w=453&amp;sz=68&amp;hl=EN&amp;start=6&amp;tbnid=UtIzV_cfTDjboM:&amp;tbnh=94&amp;tbnw=127&amp;prev=/images?q=king&amp;gbv=2&amp;ndsp=20&amp;hl=EN&amp;sa=N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om/imgres?imgurl=http://animals.nationalgeographic.com/staticfiles/NGS/Shared/StaticFiles/animals/images/primary/king-cobra.jpg&amp;imgrefurl=http://animals.nationalgeographic.com/kingcobra/&amp;usg=__nhVZdP6BYXsKF4DxaUL05CXdYVA=&amp;h=324&amp;w=470&amp;sz=30&amp;hl=EN&amp;start=2&amp;tbnid=aHD6ajvi8ahZUM:&amp;tbnh=89&amp;tbnw=129&amp;prev=/images?q=king&amp;gbv=2&amp;ndsp=20&amp;hl=EN&amp;sa=N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images.google.com/imgres?imgurl=http://www.jamesallen.com/_images/splash/designer-engagement-ring.jpg&amp;imgrefurl=http://www.jamesallen.com/engagement-ring.asp&amp;usg=__QVq7mFamtytCYBWcZ5bE4ieBmHs=&amp;h=445&amp;w=531&amp;sz=44&amp;hl=EN&amp;start=4&amp;tbnid=M9J8MWU_ldm-BM:&amp;tbnh=111&amp;tbnw=132&amp;prev=/images?q=ring&amp;gbv=2&amp;hl=EN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images.google.com/imgres?imgurl=http://wings.avkids.com/Book/Animals/Images/vulture_wing.gif&amp;imgrefurl=http://wings.avkids.com/Book/Animals/instructor/birds-01.html&amp;usg=__jHGf0PMP-Iul4qQbohng4jTWryQ=&amp;h=500&amp;w=700&amp;sz=89&amp;hl=EN&amp;start=4&amp;tbnid=V-tEHz21TWJiIM:&amp;tbnh=100&amp;tbnw=140&amp;prev=/images?q=wing&amp;gbv=2&amp;ndsp=20&amp;hl=EN&amp;sa=N" TargetMode="External"/><Relationship Id="rId8" Type="http://schemas.openxmlformats.org/officeDocument/2006/relationships/image" Target="../media/image35.jpeg"/><Relationship Id="rId9" Type="http://schemas.openxmlformats.org/officeDocument/2006/relationships/hyperlink" Target="http://images.google.com/imgres?imgurl=http://www.coolfx.com.au/contents/media/l_Instructions_Wring.png&amp;imgrefurl=http://www.coolfx.com.au/contents/en-us/d18.html&amp;usg=__jPyGQqNqaWip8UMuoKbWEnhWcZ0=&amp;h=300&amp;w=400&amp;sz=243&amp;hl=EN&amp;start=2&amp;tbnid=p_6zogZd7an-qM:&amp;tbnh=93&amp;tbnw=124&amp;prev=/images?q=wring&amp;gbv=2&amp;hl=EN" TargetMode="External"/><Relationship Id="rId10" Type="http://schemas.openxmlformats.org/officeDocument/2006/relationships/image" Target="../media/image36.jpeg"/><Relationship Id="rId11" Type="http://schemas.openxmlformats.org/officeDocument/2006/relationships/hyperlink" Target="http://images.google.com/imgres?imgurl=http://www.searchviews.com/wp-content/themes/clean-copy-full-3-column-1/images/bling.jpg&amp;imgrefurl=http://www.searchviews.com/index.php/archives/2008/09/analytics-chrome-is-the-new-website-bling.php&amp;usg=__wqx9OAtMz4-Rk7PxNTwYIad9Uec=&amp;h=472&amp;w=313&amp;sz=36&amp;hl=EN&amp;start=9&amp;tbnid=AlMfi6KESKj29M:&amp;tbnh=129&amp;tbnw=86&amp;prev=/images?q=bling&amp;gbv=2&amp;hl=EN" TargetMode="External"/><Relationship Id="rId12" Type="http://schemas.openxmlformats.org/officeDocument/2006/relationships/image" Target="../media/image37.jpeg"/><Relationship Id="rId13" Type="http://schemas.openxmlformats.org/officeDocument/2006/relationships/hyperlink" Target="http://images.google.com/imgres?imgurl=http://www.hugamonkey.com/files/panda-black-leaf-baby-sling.jpg&amp;imgrefurl=http://forums.myspace.com/t/4470315.aspx?fuseaction=forums.viewthread&amp;usg=__QyhHtGtyHc_sVk0NMcswhx66FnA=&amp;h=510&amp;w=340&amp;sz=34&amp;hl=EN&amp;start=6&amp;tbnid=2YTZjnqttGLPxM:&amp;tbnh=131&amp;tbnw=87&amp;prev=/images?q=sling&amp;gbv=2&amp;hl=EN" TargetMode="External"/><Relationship Id="rId14" Type="http://schemas.openxmlformats.org/officeDocument/2006/relationships/image" Target="../media/image38.jpeg"/><Relationship Id="rId15" Type="http://schemas.openxmlformats.org/officeDocument/2006/relationships/hyperlink" Target="http://images.google.com/imgres?imgurl=http://www.tradenote.net/images/users/000/055/382/products_images/Polyester_String.jpg&amp;imgrefurl=http://www.tradenote.net/keyword/Polyester/&amp;usg=__-T9AALgoLqpcowQpXFQVp1-fA38=&amp;h=600&amp;w=800&amp;sz=77&amp;hl=EN&amp;start=4&amp;tbnid=gBKpHY3PyN1tHM:&amp;tbnh=107&amp;tbnw=143&amp;prev=/images?q=string&amp;gbv=2&amp;hl=EN" TargetMode="External"/><Relationship Id="rId16" Type="http://schemas.openxmlformats.org/officeDocument/2006/relationships/image" Target="../media/image39.jpeg"/><Relationship Id="rId1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pellmaster/Henry%20&amp;%20Mudge/jigword2.html" TargetMode="Externa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pellmaster/Henry%20&amp;%20Mudge/jigword2.html" TargetMode="Externa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pellmaster/Henry%20&amp;%20Mudge/jigword2.html" TargetMode="External"/><Relationship Id="rId2" Type="http://schemas.openxmlformats.org/officeDocument/2006/relationships/hyperlink" Target="http://www.scottsboro.org/~flewis/SF%20Reading%20Street/Hot%20Potatoes/Henry_&amp;_Mudge.htm" TargetMode="Externa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196" TargetMode="Externa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rmes-online.com/direct/dbimage/50053906/Cap.jpg&amp;imgrefurl=http://www.germes-online.com/catalog/69/77/267/60906/sell_cap.html&amp;usg=__xqA9GBUXo-2Ol2-lEuDctSdTQFQ=&amp;h=360&amp;w=360&amp;sz=34&amp;hl=en&amp;start=12&amp;tbnid=if_PDawZbhWF_M:&amp;tbnh=121&amp;tbnw=121&amp;prev=/images?q=CAP&amp;gbv=2&amp;hl=en" TargetMode="External"/><Relationship Id="rId2" Type="http://schemas.openxmlformats.org/officeDocument/2006/relationships/image" Target="../media/image42.jpeg"/><Relationship Id="rId3" Type="http://schemas.openxmlformats.org/officeDocument/2006/relationships/hyperlink" Target="http://images.google.com/imgres?imgurl=http://www.hollandsjewelers.com/blog2/wp-content/uploads/2009/04/world-map.gif&amp;imgrefurl=http://www.hollandsjewelers.com/blog2/&amp;usg=__QLlXOGDf6u8Womb9jINPSFRvJuo=&amp;h=519&amp;w=800&amp;sz=90&amp;hl=en&amp;start=33&amp;tbnid=ceZ5qNeYjAlS3M:&amp;tbnh=93&amp;tbnw=143&amp;prev=/images?q=map&amp;gbv=2&amp;ndsp=20&amp;hl=en&amp;sa=N&amp;start=20" TargetMode="External"/><Relationship Id="rId4" Type="http://schemas.openxmlformats.org/officeDocument/2006/relationships/image" Target="../media/image43.jpeg"/><Relationship Id="rId5" Type="http://schemas.openxmlformats.org/officeDocument/2006/relationships/hyperlink" Target="http://images.google.com/imgres?imgurl=http://i1.trekearth.com/photos/897/resize_of_sap4.jpg&amp;imgrefurl=http://www.trekearth.com/gallery/North_America/Canada/Central/Ontario/Toronto/photo10286.htm&amp;usg=__IwiEhSsFq0VNgFze9A_q3v0ScI8=&amp;h=755&amp;w=600&amp;sz=70&amp;hl=en&amp;start=5&amp;tbnid=6kGCo7gB72U-hM:&amp;tbnh=142&amp;tbnw=113&amp;prev=/images?q=tree+sap&amp;gbv=2&amp;hl=en" TargetMode="External"/><Relationship Id="rId6" Type="http://schemas.openxmlformats.org/officeDocument/2006/relationships/image" Target="../media/image44.jpeg"/><Relationship Id="rId7" Type="http://schemas.openxmlformats.org/officeDocument/2006/relationships/hyperlink" Target="http://images.google.com/imgres?imgurl=http://img.timeinc.net/recipes/i/recipes/su/07/01/egg-wrap-su-642319-l.jpg&amp;imgrefurl=http://find.myrecipes.com/recipes/recipefinder.dyn?action=displayRecipe&amp;recipe_id=642319&amp;usg=__gBWTd-mYLXLxO8C27MEZKBCh1e0=&amp;h=300&amp;w=300&amp;sz=25&amp;hl=en&amp;start=9&amp;tbnid=IQDuvOwF2DT6jM:&amp;tbnh=116&amp;tbnw=116&amp;prev=/images?q=wrap&amp;gbv=2&amp;hl=en" TargetMode="External"/><Relationship Id="rId8" Type="http://schemas.openxmlformats.org/officeDocument/2006/relationships/image" Target="../media/image45.jpeg"/><Relationship Id="rId9" Type="http://schemas.openxmlformats.org/officeDocument/2006/relationships/hyperlink" Target="http://images.google.com/imgres?imgurl=http://www.global-b2b-network.com/direct/dbimage/50266660/Snap_Button.jpg&amp;imgrefurl=http://www.global-b2b-network.com/b2b/69/75/248/buttons_and_buckles.html&amp;usg=__LEeNJsAByJ4c6cR1YhMJsvbaGdM=&amp;h=360&amp;w=360&amp;sz=37&amp;hl=en&amp;start=10&amp;tbnid=XDJENxxkrc6orM:&amp;tbnh=121&amp;tbnw=121&amp;prev=/images?q=snap&amp;gbv=2&amp;hl=en" TargetMode="External"/><Relationship Id="rId10" Type="http://schemas.openxmlformats.org/officeDocument/2006/relationships/image" Target="../media/image46.jpeg"/><Relationship Id="rId11" Type="http://schemas.openxmlformats.org/officeDocument/2006/relationships/hyperlink" Target="http://images.google.com/imgres?imgurl=http://www.watersportswarehouse.co.uk/images/product/main/beaver-watch-straps_WT-S.jpg&amp;imgrefurl=http://www.watersportswarehouse.co.uk/shop/scuba-diving-equipment/watches-for-diving/resin-rubber-watch-straps-519314.html&amp;usg=__sTzttjLOd6OWVB657IRcup6IvKU=&amp;h=400&amp;w=400&amp;sz=34&amp;hl=en&amp;start=39&amp;tbnid=7MCl_LGh7sMXXM:&amp;tbnh=124&amp;tbnw=124&amp;prev=/images?q=strap&amp;gbv=2&amp;ndsp=20&amp;hl=en&amp;sa=N&amp;start=20" TargetMode="External"/><Relationship Id="rId12" Type="http://schemas.openxmlformats.org/officeDocument/2006/relationships/image" Target="../media/image47.jpeg"/><Relationship Id="rId1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Hot%20Potatoes/Henry_&amp;_Mudge.ht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196" TargetMode="Externa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pellmaster/Henry%20&amp;%20Mudge/jigword2.html" TargetMode="External"/><Relationship Id="rId2" Type="http://schemas.openxmlformats.org/officeDocument/2006/relationships/slide" Target="slide72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hyperlink" Target="http://images.google.com/imgres?imgurl=http://www.dennisflood.com/photos/featured/lanterns/l-lanterns.jpg&amp;imgrefurl=http://www.dennisflood.com/photos/featured/lanterns.shtml&amp;usg=__s5ZaMUgeAvLV0tJT0s35fNRm2Ik=&amp;h=529&amp;w=800&amp;sz=100&amp;hl=EN&amp;start=14&amp;tbnid=DV_5OZmZ3sOyPM:&amp;tbnh=95&amp;tbnw=143&amp;prev=/images?q=lanterns&amp;gbv=2&amp;hl=EN" TargetMode="External"/><Relationship Id="rId3" Type="http://schemas.openxmlformats.org/officeDocument/2006/relationships/image" Target="../media/image48.jpeg"/><Relationship Id="rId4" Type="http://schemas.openxmlformats.org/officeDocument/2006/relationships/hyperlink" Target="http://images.google.com/imgres?imgurl=http://www.shoestringhome.com/media/pr_hou_lanterns_l.jpg&amp;imgrefurl=http://www.shoestringhome.com/Outdoor_lantern.html&amp;usg=__Jd8qNj9BPb6smcX6NXc_ZUCs9h8=&amp;h=287&amp;w=287&amp;sz=22&amp;hl=EN&amp;start=15&amp;tbnid=JScVZOhQVJyNjM:&amp;tbnh=115&amp;tbnw=115&amp;prev=/images?q=lanterns&amp;gbv=2&amp;hl=EN" TargetMode="External"/><Relationship Id="rId5" Type="http://schemas.openxmlformats.org/officeDocument/2006/relationships/image" Target="../media/image49.jpeg"/><Relationship Id="rId6" Type="http://schemas.openxmlformats.org/officeDocument/2006/relationships/hyperlink" Target="http://images.google.com/imgres?imgurl=http://img.alibaba.com/photo/10033769/Hurricane_Lanterns_Replacement_Glass_Globes.jpg&amp;imgrefurl=http://www.alibaba.com/product-free/10033769/Hurricane_Lanterns_Replacement_Glass_Globes.html&amp;usg=__MhrRybBqXorChsxowyiBwBA6Qws=&amp;h=544&amp;w=600&amp;sz=53&amp;hl=EN&amp;start=10&amp;tbnid=1dJBziDPtPgBKM:&amp;tbnh=122&amp;tbnw=135&amp;prev=/images?q=lanterns&amp;gbv=2&amp;hl=EN" TargetMode="External"/><Relationship Id="rId7" Type="http://schemas.openxmlformats.org/officeDocument/2006/relationships/image" Target="../media/image50.jpeg"/><Relationship Id="rId8" Type="http://schemas.openxmlformats.org/officeDocument/2006/relationships/hyperlink" Target="http://images.google.com/imgres?imgurl=http://i.pbase.com/o6/03/659803/1/69517771.sdpYatPm.ThreeOldLanterns1.jpg&amp;imgrefurl=http://www.pbase.com/luvnartusa/my_paintings_from_your_photographs&amp;usg=__f0r2wedAHy4llJGJZbhc8iYvhCg=&amp;h=346&amp;w=400&amp;sz=117&amp;hl=EN&amp;start=74&amp;tbnid=UXyHom1_X-7lTM:&amp;tbnh=107&amp;tbnw=124&amp;prev=/images?q=lanterns&amp;start=60&amp;gbv=2&amp;ndsp=20&amp;hl=EN&amp;sa=N" TargetMode="External"/><Relationship Id="rId9" Type="http://schemas.openxmlformats.org/officeDocument/2006/relationships/image" Target="../media/image51.jpeg"/><Relationship Id="rId10" Type="http://schemas.openxmlformats.org/officeDocument/2006/relationships/hyperlink" Target="http://images.google.com/imgres?imgurl=http://reigninggifts.com/images/prodimages/light/WhiteIvoryGlassLantern1037437_big.jpg&amp;imgrefurl=http://reigninggifts.com/LanternLighting.htm&amp;usg=__eSgTrD67RbUQRBTAuIaQlfIBuuc=&amp;h=494&amp;w=477&amp;sz=51&amp;hl=EN&amp;start=64&amp;tbnid=dnIiXLninZNxXM:&amp;tbnh=130&amp;tbnw=126&amp;prev=/images?q=lanterns&amp;start=60&amp;gbv=2&amp;ndsp=20&amp;hl=EN&amp;sa=N" TargetMode="External"/><Relationship Id="rId11" Type="http://schemas.openxmlformats.org/officeDocument/2006/relationships/image" Target="../media/image52.jpeg"/><Relationship Id="rId12" Type="http://schemas.openxmlformats.org/officeDocument/2006/relationships/hyperlink" Target="http://images.google.com/imgres?imgurl=http://chineselanternplant.org/images/asian_lanterns/asian_lanterns_250x251.jpg&amp;imgrefurl=http://chineselanternplant.org/result.php?Keywords=asian+lanterns&amp;host=chineselanternplant.org&amp;cat=1&amp;usg=__3_swQVTGOLKYh2Ice1yH11oOlys=&amp;h=251&amp;w=250&amp;sz=15&amp;hl=EN&amp;start=92&amp;tbnid=WAG_pYCFdAgSKM:&amp;tbnh=111&amp;tbnw=111&amp;prev=/images?q=lanterns&amp;start=80&amp;gbv=2&amp;ndsp=20&amp;hl=EN&amp;sa=N" TargetMode="External"/><Relationship Id="rId13" Type="http://schemas.openxmlformats.org/officeDocument/2006/relationships/image" Target="../media/image53.jpeg"/><Relationship Id="rId1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hyperlink" Target="http://images.google.com/imgres?imgurl=http://images.discositdown.com/bimages/snuggle.jpg&amp;imgrefurl=http://discositdown.blogspot.com/2007/11/power-snuggle-1.html&amp;usg=__Ye5Xg4KYGb_0I-aEci6RUmYdSkk=&amp;h=287&amp;w=375&amp;sz=35&amp;hl=EN&amp;start=2&amp;tbnid=uzZ90xTwAK7TuM:&amp;tbnh=93&amp;tbnw=122&amp;prev=/images?q=snuggle&amp;gbv=2&amp;hl=EN" TargetMode="External"/><Relationship Id="rId3" Type="http://schemas.openxmlformats.org/officeDocument/2006/relationships/image" Target="../media/image54.jpeg"/><Relationship Id="rId4" Type="http://schemas.openxmlformats.org/officeDocument/2006/relationships/hyperlink" Target="http://images.google.com/imgres?imgurl=http://www.btinternet.com/~terry.harper/images/amber/snuggled.jpg&amp;imgrefurl=http://www.btinternet.com/~terry.harper/images/amber/index.htm&amp;usg=__WTR9Mb4UYODFEjSp7i6Wc9-pXIY=&amp;h=567&amp;w=875&amp;sz=63&amp;hl=EN&amp;start=1&amp;tbnid=8OcEnJUsjujuvM:&amp;tbnh=95&amp;tbnw=146&amp;prev=/images?q=snuggled&amp;gbv=2&amp;hl=EN" TargetMode="External"/><Relationship Id="rId5" Type="http://schemas.openxmlformats.org/officeDocument/2006/relationships/image" Target="../media/image55.jpeg"/><Relationship Id="rId6" Type="http://schemas.openxmlformats.org/officeDocument/2006/relationships/hyperlink" Target="http://images.google.com/imgres?imgurl=http://dandygoldens.com/images/snuggled%2520under%2520mom&apos;s%2520chin.jpg&amp;imgrefurl=http://dandygoldens.com/Puppies.aspx&amp;usg=__aG5vdp2F3vbN0J_lGFJ2G9v2kDE=&amp;h=480&amp;w=640&amp;sz=24&amp;hl=EN&amp;start=15&amp;tbnid=sqEB_uYLEfZFoM:&amp;tbnh=103&amp;tbnw=137&amp;prev=/images?q=snuggled&amp;gbv=2&amp;hl=EN" TargetMode="External"/><Relationship Id="rId7" Type="http://schemas.openxmlformats.org/officeDocument/2006/relationships/image" Target="../media/image56.jpeg"/><Relationship Id="rId8" Type="http://schemas.openxmlformats.org/officeDocument/2006/relationships/hyperlink" Target="http://images.google.com/imgres?imgurl=http://www.mainelydanes.com/images/Snuggled.jpg&amp;imgrefurl=http://www.mainelydanes.com/sagespage.html&amp;usg=__QVdcZYNYfxm6DrRTk546k1Ru3RQ=&amp;h=1200&amp;w=1600&amp;sz=403&amp;hl=EN&amp;start=22&amp;tbnid=b8ap8giDqGNn1M:&amp;tbnh=113&amp;tbnw=150&amp;prev=/images?q=snuggled&amp;start=20&amp;gbv=2&amp;ndsp=20&amp;hl=EN&amp;sa=N" TargetMode="External"/><Relationship Id="rId9" Type="http://schemas.openxmlformats.org/officeDocument/2006/relationships/image" Target="../media/image57.jpeg"/><Relationship Id="rId10" Type="http://schemas.openxmlformats.org/officeDocument/2006/relationships/hyperlink" Target="http://images.google.com/imgres?imgurl=http://flowcon.us/brandy%2520snuggled%2520in%2520warm.jpg&amp;imgrefurl=http://flowcon.us/sceneoregon.htm&amp;usg=__c6CRatKEhtsS6CYT6g8OvLHHRWU=&amp;h=768&amp;w=1024&amp;sz=129&amp;hl=EN&amp;start=42&amp;tbnid=DTuha6ZwLEInYM:&amp;tbnh=113&amp;tbnw=150&amp;prev=/images?q=snuggled&amp;start=40&amp;gbv=2&amp;ndsp=20&amp;hl=EN&amp;sa=N" TargetMode="External"/><Relationship Id="rId11" Type="http://schemas.openxmlformats.org/officeDocument/2006/relationships/image" Target="../media/image58.jpeg"/><Relationship Id="rId12" Type="http://schemas.openxmlformats.org/officeDocument/2006/relationships/hyperlink" Target="http://images.google.com/imgres?imgurl=http://ksmcnulty.files.wordpress.com/2007/12/snuggled-up-2.jpg&amp;imgrefurl=http://ksmcnulty.wordpress.com/2007/12/10/&amp;usg=__gVIRAAFx_plMN6AFata2M5dBH_o=&amp;h=300&amp;w=400&amp;sz=53&amp;hl=EN&amp;start=21&amp;tbnid=yFE-_Do-4BcthM:&amp;tbnh=93&amp;tbnw=124&amp;prev=/images?q=snuggled&amp;start=20&amp;gbv=2&amp;ndsp=20&amp;hl=EN&amp;sa=N" TargetMode="External"/><Relationship Id="rId13" Type="http://schemas.openxmlformats.org/officeDocument/2006/relationships/image" Target="../media/image59.jpeg"/><Relationship Id="rId1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40.xml"/><Relationship Id="rId3" Type="http://schemas.openxmlformats.org/officeDocument/2006/relationships/slide" Target="slide80.xml"/><Relationship Id="rId4" Type="http://schemas.openxmlformats.org/officeDocument/2006/relationships/slide" Target="slide100.xml"/><Relationship Id="rId5" Type="http://schemas.openxmlformats.org/officeDocument/2006/relationships/slide" Target="slide119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pellmaster/Henry%20&amp;%20Mudge/jigword2.html" TargetMode="External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hyperlink" Target="http://classroom.jc-schools.net/waltkek/Building_Words3-1.doc" TargetMode="External"/><Relationship Id="rId2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Hot%20Potatoes/Henry_&amp;_Mudge.htm" TargetMode="External"/><Relationship Id="rId2" Type="http://schemas.openxmlformats.org/officeDocument/2006/relationships/hyperlink" Target="http://www.scottsboro.org/~flewis/SF%20Reading%20Street/Hot%20Potatoes/Henry_&amp;_Mudge.htm" TargetMode="External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196" TargetMode="External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ajuncorner-furniture.com/CATALOGS/FR/Bunks_Futons_Daybeds/Zimages/10-4100%252520bunk.jpg&amp;imgrefurl=http://cajuncorner-furniture.com/CATALOGS/FR/Bunks_Futons_Daybeds/Beds01.htm&amp;usg=__Q-wRsunqtWSd_28eexzB7-3ec04=&amp;h=720&amp;w=750&amp;sz=52&amp;hl=en&amp;start=18&amp;tbnid=Ojl5U2sLuaqQyM:&amp;tbnh=135&amp;tbnw=141&amp;prev=/images?q=bunk&amp;gbv=2&amp;hl=en" TargetMode="External"/><Relationship Id="rId2" Type="http://schemas.openxmlformats.org/officeDocument/2006/relationships/image" Target="../media/image60.jpeg"/><Relationship Id="rId3" Type="http://schemas.openxmlformats.org/officeDocument/2006/relationships/hyperlink" Target="http://images.google.com/imgres?imgurl=http://lebbeuswoods.files.wordpress.com/2008/06/lwblog-junk1.jpg&amp;imgrefurl=http://lebbeuswoods.wordpress.com/2008/06/01/junk/&amp;usg=__F1QtbhS96EdhDSl9ao_OdIH7O-c=&amp;h=827&amp;w=1250&amp;sz=665&amp;hl=en&amp;start=16&amp;tbnid=-pM2ZQ7rbLSvqM:&amp;tbnh=99&amp;tbnw=150&amp;prev=/images?q=junk&amp;gbv=2&amp;hl=en" TargetMode="External"/><Relationship Id="rId4" Type="http://schemas.openxmlformats.org/officeDocument/2006/relationships/image" Target="../media/image61.jpeg"/><Relationship Id="rId5" Type="http://schemas.openxmlformats.org/officeDocument/2006/relationships/hyperlink" Target="http://images.google.com/imgres?imgurl=http://www.collider.com/uploads/imageGallery/Punks_Not_Dead/punk_s_not_dead_movie_image.jpg&amp;imgrefurl=http://blog.oregonlive.com/madaboutmovies/2007/09/&amp;usg=__KFuFQjIg_gYNO_-1XzIcDfWlSoo=&amp;h=450&amp;w=600&amp;sz=54&amp;hl=en&amp;start=5&amp;tbnid=Otua7oto773F4M:&amp;tbnh=101&amp;tbnw=135&amp;prev=/images?q=punk&amp;gbv=2&amp;hl=en" TargetMode="External"/><Relationship Id="rId6" Type="http://schemas.openxmlformats.org/officeDocument/2006/relationships/image" Target="../media/image62.jpeg"/><Relationship Id="rId7" Type="http://schemas.openxmlformats.org/officeDocument/2006/relationships/hyperlink" Target="http://images.google.com/imgres?imgurl=http://www.cookiemadness.net/Toffee%2520Bar%2520Chunk%2520Cookies.jpg&amp;imgrefurl=http://www.cookiemadness.net/?s=hersheys&amp;paged=2&amp;usg=__mQknQfia6VSsNw8DexQGvUPsXIQ=&amp;h=384&amp;w=450&amp;sz=90&amp;hl=en&amp;start=14&amp;tbnid=uYjsnZAwbCioDM:&amp;tbnh=108&amp;tbnw=127&amp;prev=/images?q=chunk&amp;gbv=2&amp;hl=en" TargetMode="External"/><Relationship Id="rId8" Type="http://schemas.openxmlformats.org/officeDocument/2006/relationships/image" Target="../media/image63.jpeg"/><Relationship Id="rId9" Type="http://schemas.openxmlformats.org/officeDocument/2006/relationships/hyperlink" Target="http://images.google.com/imgres?imgurl=http://blog.halopets.com/wp-content/skunkbabies.jpg&amp;imgrefurl=http://blog.halopets.com/2008/05/14/skunk-odor-removal/&amp;usg=__AM2IIFSR1b2GJkeAtsc4x7Qgm7g=&amp;h=1200&amp;w=1600&amp;sz=328&amp;hl=en&amp;start=3&amp;tbnid=M20ZXtZZ-4YG7M:&amp;tbnh=113&amp;tbnw=150&amp;prev=/images?q=skunk&amp;gbv=2&amp;hl=en" TargetMode="External"/><Relationship Id="rId10" Type="http://schemas.openxmlformats.org/officeDocument/2006/relationships/image" Target="../media/image64.jpeg"/><Relationship Id="rId11" Type="http://schemas.openxmlformats.org/officeDocument/2006/relationships/hyperlink" Target="http://images.google.com/imgres?imgurl=http://novoscene.files.wordpress.com/2007/09/trunk.jpg&amp;imgrefurl=http://novoscene.wordpress.com/2007/09/21/scraperology-101/&amp;usg=__0Qzu-pshhQr6vkOJrUdrfp4NgNg=&amp;h=375&amp;w=500&amp;sz=80&amp;hl=en&amp;start=1&amp;tbnid=XJPXJu50ZR4B3M:&amp;tbnh=98&amp;tbnw=130&amp;prev=/images?q=trunk&amp;gbv=2&amp;hl=en" TargetMode="External"/><Relationship Id="rId12" Type="http://schemas.openxmlformats.org/officeDocument/2006/relationships/image" Target="../media/image65.jpeg"/><Relationship Id="rId13" Type="http://schemas.openxmlformats.org/officeDocument/2006/relationships/hyperlink" Target="http://images.google.com/imgres?imgurl=http://www.legacytrunks.com/images/Circa%25201850s%2520Gold%2520Rush%2520Stagecoach%2520Trunk.jpg&amp;imgrefurl=http://www.legacytrunks.com/trunk_history_information.htm&amp;usg=__tDk8EuX795EFWybR2SA6qrqwsnY=&amp;h=378&amp;w=504&amp;sz=38&amp;hl=en&amp;start=2&amp;tbnid=T99TGCGZyKj09M:&amp;tbnh=98&amp;tbnw=130&amp;prev=/images?q=trunk&amp;gbv=2&amp;hl=en" TargetMode="External"/><Relationship Id="rId14" Type="http://schemas.openxmlformats.org/officeDocument/2006/relationships/image" Target="../media/image66.jpeg"/><Relationship Id="rId15" Type="http://schemas.openxmlformats.org/officeDocument/2006/relationships/hyperlink" Target="http://images.google.com/imgres?imgurl=http://www.birdsasart.com/elephant%2520trunk.jpg&amp;imgrefurl=http://www.birdsasart.com/bn197.htm&amp;usg=__w8tEktXG088mw3srVPs6RXrhKHk=&amp;h=626&amp;w=650&amp;sz=222&amp;hl=en&amp;start=8&amp;tbnid=FcoYN3390pOjkM:&amp;tbnh=132&amp;tbnw=137&amp;prev=/images?q=trunk&amp;gbv=2&amp;ndsp=20&amp;hl=en&amp;sa=N" TargetMode="External"/><Relationship Id="rId16" Type="http://schemas.openxmlformats.org/officeDocument/2006/relationships/image" Target="../media/image67.jpeg"/><Relationship Id="rId17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What can we discover by exploring nature?</a:t>
            </a: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lick to listen to story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Picture 13" descr="Henry &amp; Mudg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24080" y="1676520"/>
            <a:ext cx="289260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600200" y="2133720"/>
          <a:ext cx="6095880" cy="38955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9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can learn about animals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everywher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 the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worl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We can learn how stars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mov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 the sky.  What else can we discover by exploring natur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9"/>
          <p:cNvSpPr/>
          <p:nvPr/>
        </p:nvSpPr>
        <p:spPr>
          <a:xfrm>
            <a:off x="31240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stars make pictures in the sky?  You can see some star pictures during autumn and some others before the fall season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stars make pictures in the sky?  You can see some star pictures during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autum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d some others before the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fall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eason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onant bl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a good spea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2895480" y="1447920"/>
          <a:ext cx="3657600" cy="520056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qu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ldlif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nea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ct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cina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m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Read Aloud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sects Are My Lif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rap on the backpack broke and books went everyw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was brave enough to live and work in the wide open We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chines help dump and spread piles of ro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bake bread for our sn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ind was strong enough to make the kite mo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ise woman just went on a trip around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819520" y="1600200"/>
          <a:ext cx="3657600" cy="432288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3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ivere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oole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tern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uggle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2514600" y="1752480"/>
          <a:ext cx="4114800" cy="461484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ffcc"/>
                          </a:solidFill>
                          <a:uFillTx/>
                          <a:latin typeface="Arial"/>
                          <a:hlinkClick r:id="rId2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t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n’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i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2" name="Rectangle 9"/>
          <p:cNvSpPr/>
          <p:nvPr/>
        </p:nvSpPr>
        <p:spPr>
          <a:xfrm>
            <a:off x="6095880" y="19051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5410080" y="1600200"/>
          <a:ext cx="3200400" cy="419112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457200" y="1143000"/>
          <a:ext cx="4572000" cy="52005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ffcc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p             mas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p            tw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             breez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            st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ve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brow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   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tra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p   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kelet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Verdana"/>
              </a:rPr>
              <a:t>Word Family Word – mail</a:t>
            </a:r>
            <a:br>
              <a:rPr sz="4000"/>
            </a:br>
            <a:r>
              <a:rPr b="0" lang="en-US" sz="1400" spc="-1" strike="noStrike" u="sng">
                <a:solidFill>
                  <a:srgbClr val="00ffcc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914400" y="1228680"/>
          <a:ext cx="6740640" cy="4702320"/>
        </p:xfrm>
        <a:graphic>
          <a:graphicData uri="http://schemas.openxmlformats.org/drawingml/2006/table">
            <a:tbl>
              <a:tblPr/>
              <a:tblGrid>
                <a:gridCol w="2590920"/>
                <a:gridCol w="1903320"/>
                <a:gridCol w="224640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8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    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     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 </a:t>
                      </a:r>
                      <a:r>
                        <a:rPr b="1" lang="en-US" sz="2800" spc="-1" strike="noStrike">
                          <a:solidFill>
                            <a:srgbClr val="463416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qu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mazing wor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onant blen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 and setting,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Verdana"/>
              </a:rPr>
              <a:t>Word Family Word – mai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5" descr="hai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2952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JailCell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1295280"/>
            <a:ext cx="1523880" cy="11494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9" descr="nail_art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9880" y="129528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1" descr="46%2520yellow%2520pai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1295280"/>
            <a:ext cx="731880" cy="9907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3" descr="Kath_ballast_stockpile-rai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467480" y="1295280"/>
            <a:ext cx="1352520" cy="10191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5" descr="long_tai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828800" y="3429000"/>
            <a:ext cx="1104840" cy="16765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7" descr="sailinginbrevard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00400" y="35053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9" descr="quail5-16-04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181480" y="3809880"/>
            <a:ext cx="1676520" cy="11718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21" descr="roman-snail-21973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162920" y="3809880"/>
            <a:ext cx="1666800" cy="11620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3" descr="FtCircleTrail2"/>
          <p:cNvPicPr/>
          <p:nvPr/>
        </p:nvPicPr>
        <p:blipFill>
          <a:blip r:embed="rId19"/>
          <a:stretch/>
        </p:blipFill>
        <p:spPr>
          <a:xfrm>
            <a:off x="380880" y="3429000"/>
            <a:ext cx="1257480" cy="167652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24"/>
          <p:cNvSpPr/>
          <p:nvPr/>
        </p:nvSpPr>
        <p:spPr>
          <a:xfrm>
            <a:off x="717480" y="25909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25"/>
          <p:cNvSpPr/>
          <p:nvPr/>
        </p:nvSpPr>
        <p:spPr>
          <a:xfrm>
            <a:off x="2475360" y="25146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26"/>
          <p:cNvSpPr/>
          <p:nvPr/>
        </p:nvSpPr>
        <p:spPr>
          <a:xfrm>
            <a:off x="4495680" y="259092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27"/>
          <p:cNvSpPr/>
          <p:nvPr/>
        </p:nvSpPr>
        <p:spPr>
          <a:xfrm>
            <a:off x="650916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28"/>
          <p:cNvSpPr/>
          <p:nvPr/>
        </p:nvSpPr>
        <p:spPr>
          <a:xfrm>
            <a:off x="7800840" y="236232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29"/>
          <p:cNvSpPr/>
          <p:nvPr/>
        </p:nvSpPr>
        <p:spPr>
          <a:xfrm>
            <a:off x="564840" y="510552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30"/>
          <p:cNvSpPr/>
          <p:nvPr/>
        </p:nvSpPr>
        <p:spPr>
          <a:xfrm>
            <a:off x="2006280" y="51814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31"/>
          <p:cNvSpPr/>
          <p:nvPr/>
        </p:nvSpPr>
        <p:spPr>
          <a:xfrm>
            <a:off x="3771360" y="51814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32"/>
          <p:cNvSpPr/>
          <p:nvPr/>
        </p:nvSpPr>
        <p:spPr>
          <a:xfrm>
            <a:off x="5603760" y="50292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33"/>
          <p:cNvSpPr/>
          <p:nvPr/>
        </p:nvSpPr>
        <p:spPr>
          <a:xfrm>
            <a:off x="7437960" y="502920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n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0" name="Picture 35" descr="nail"/>
          <p:cNvPicPr/>
          <p:nvPr/>
        </p:nvPicPr>
        <p:blipFill>
          <a:blip r:embed="rId20"/>
          <a:stretch/>
        </p:blipFill>
        <p:spPr>
          <a:xfrm>
            <a:off x="5181480" y="1295280"/>
            <a:ext cx="11430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5" descr="Student Pages"/>
          <p:cNvPicPr/>
          <p:nvPr/>
        </p:nvPicPr>
        <p:blipFill>
          <a:blip r:embed="rId1"/>
          <a:stretch/>
        </p:blipFill>
        <p:spPr>
          <a:xfrm>
            <a:off x="228600" y="304920"/>
            <a:ext cx="876312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5" descr="Student Pages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en’s bik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Jen’s bike had a flat tir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he and ji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She and Jim walked hom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Grammar:  Predicates</a:t>
            </a:r>
            <a:br>
              <a:rPr sz="2400"/>
            </a:b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Predicates  tell what the subject of the sentence did.</a:t>
            </a:r>
            <a:br>
              <a:rPr sz="40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im and Jen liked to ride their bik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im and Jen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liked to ride their bik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anted to explore n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wanted to explore na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rode their bikes to the pa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rode their bikes to the pa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Grammar:  Predicates</a:t>
            </a:r>
            <a:br>
              <a:rPr sz="2400"/>
            </a:b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Predicates  tell what the subject of the sentence did.</a:t>
            </a:r>
            <a:br>
              <a:rPr sz="40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of them looked for living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of them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looked for living thing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found trees, insects, and bi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found trees, insects, and bir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e a Good Speak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ood speaker does several things as he or she is in a classroom discu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 slowly and carefu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 or sit up stra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se your hand and ask to spea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 loudly enough to be he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tur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 to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eard a story about a girl who loves bugs.  Tomorrow we will hear about Amanda Frankenstein a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 wildlife in a park o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 backyard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week we read about exploring nature.  Henry and Mudge found wildlife and a galaxy of stars.  If they looked underneath rocks, could they identify fascinating insects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5120" y="2819520"/>
          <a:ext cx="6095880" cy="2262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5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consonant bl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Frequenc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s of a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2895480" y="1447920"/>
          <a:ext cx="3657600" cy="520056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qu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ldlif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nea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ct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cina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m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2819520" y="1600200"/>
          <a:ext cx="3657600" cy="432288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3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ivere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oole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tern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uggle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5410080" y="1600200"/>
          <a:ext cx="3200400" cy="419112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457200" y="1143000"/>
          <a:ext cx="4572000" cy="52005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p             mas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p            tw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             breez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            st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ve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brow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   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tra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p   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kelet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Consonant Blends </a:t>
            </a:r>
            <a:br>
              <a:rPr sz="4000"/>
            </a:br>
            <a:r>
              <a:rPr b="1" lang="en-US" sz="2000" spc="-1" strike="noStrike">
                <a:solidFill>
                  <a:srgbClr val="e3e3ff"/>
                </a:solidFill>
                <a:latin typeface="Arial"/>
              </a:rPr>
              <a:t>Choose the words in each sentence that have consonant blends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een frog is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fr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lip on the stone st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li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t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te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fly to the state of Flor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f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the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t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Florid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tree is the last one we will pl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tr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la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e we will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pla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2514600" y="1752480"/>
          <a:ext cx="4114800" cy="461484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t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n’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i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9" name="Rectangle 9"/>
          <p:cNvSpPr/>
          <p:nvPr/>
        </p:nvSpPr>
        <p:spPr>
          <a:xfrm>
            <a:off x="6095880" y="19051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br>
              <a:rPr sz="40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bear, straight, love, mother, father, build, couldn’t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____ is the greatest 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____ him with all my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_____ is the greatest m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never be ap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____ ask for better fo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elp me _____, bake, or s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elp me keep my bedroom_____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ive me a big ____ hug, you know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br>
              <a:rPr sz="40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bear, straight, love, mother, father, build, couldn’t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fa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reatest 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____ him with all my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_____ is the greatest m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never be ap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____ ask for better fo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elp me _____, bake, or s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elp me keep my bedroom_____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ive me a big ____ hug, you know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br>
              <a:rPr sz="40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bear, straight, love, mother, father, build, couldn’t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fa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reatest 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lo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m with all my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_____ is the greatest m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never be ap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____ ask for better fo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elp me _____ , bake, or s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elp me keep my bedroom_____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ive me a big ____ hug, you know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br>
              <a:rPr sz="40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bear, straight, love, mother, father, build, couldn’t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fa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reatest 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lo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m with all my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mo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reatest m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never be ap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____ ask for better fo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elp me _____, bake, or s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elp me keep my bedroom_____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ive me a big ____ hug, you know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galax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gal – ax - 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galax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huge group of stars.  Earth and the sun are part of a big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a clear night you can see a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galax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st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sts say there are lots of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galax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sides the one we are 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br>
              <a:rPr sz="40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bear, straight, love, mother, father, build, couldn’t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fa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reatest 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lo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m with all my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mo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reatest m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never be ap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could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k for better fo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elp me _____ , bake, or s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elp me keep my bedroom_____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ive me a big ____ hug, you know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br>
              <a:rPr sz="40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bear, straight, love, mother, father, build, couldn’t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fa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reatest 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lo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m with all my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mo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reatest m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never be ap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could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k for better fo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elp me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bui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bake, or s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elp me keep my bedroom_____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ive me a big ____ hug, you know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br>
              <a:rPr sz="40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bear, straight, love, mother, father, build, couldn’t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fa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reatest 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lo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m with all my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mo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reatest m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never be ap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could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k for better fo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elp me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bui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bake, or s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elp me keep my bedroom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stra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ive me a big ____ hug, you know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br>
              <a:rPr sz="40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bear, straight, love, mother, father, build, couldn’t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fa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reatest 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lo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m with all my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mo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reatest m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never be ap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could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k for better fo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elp me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bui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bake, or s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elp me keep my bedroom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stra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ive me a big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be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ug, you know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72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enry and Mudg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Henry and Mudge went campin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cooking does Henry’s moth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Henry’s mother does the cookin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33cccc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need to locate information about something in a book, you can use parts of the book to help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table of cont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find out what the book is about.  It shows the chapters in the book and what page they start 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ind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sts topics in alphabetical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glossa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ells you the meanings of words in the boo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alax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9" descr="n10b-n-andromeda-galaxy-495B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066680"/>
            <a:ext cx="2666880" cy="1771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galaxy_NGC_pic2394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4267080"/>
            <a:ext cx="2571480" cy="1886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Free_Galaxy_Screensaver-257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1066680"/>
            <a:ext cx="2600280" cy="1954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ring-galaxy-j-tucc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1066680"/>
            <a:ext cx="2743200" cy="183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7" descr="96664main_galaxy_string_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" y="4168800"/>
            <a:ext cx="2819520" cy="1898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n09j-n-galaxy-NGC7742B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261120" y="3124080"/>
            <a:ext cx="2397240" cy="2990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1" descr="galaxy-640x480-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295280" y="2971800"/>
            <a:ext cx="1524240" cy="1146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3" descr="n10e-n-sombrero-galaxy-95_72B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733920" y="3048120"/>
            <a:ext cx="19810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he b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he b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o find topics in the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5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ss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he b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o find topics in the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304920" y="1600200"/>
          <a:ext cx="8381880" cy="434016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ss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he b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back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o find topics in the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304920" y="1600200"/>
          <a:ext cx="8381880" cy="451152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ss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he b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back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o find topics in the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 of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eview Gam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cabulary &amp; Amazing Wor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ig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lling Wor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ia G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lling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 Frequency Wor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Potatoes (fill-in-the-bla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rap Up Your Week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Arial"/>
              </a:rPr>
              <a:t>Let’s Talk Ab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Arial"/>
              </a:rPr>
              <a:t>Expl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traveling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ough the galaxy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APTPlus Videos 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(Password Required)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80880" y="1828800"/>
          <a:ext cx="8458200" cy="419112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loser Look at Space: The Sun and Stars (20:59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First Look: The Sky Above (17:00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ior Space Scientist: Our Solar System (09:33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loser Look at Space: The Planets (20:00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loser Look at Space: The Moon (20:00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 Home in Space (15:00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olar System: A First Look (15:00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7" name="Rectangle 9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ranqui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tran - qu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Tranqu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how you feel when you are very calm and peacefu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ing at the stars makes me feel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tranqu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arm summer night seems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tranqu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 are now ready to take our story tests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# 9046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wildlif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wild -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s and plants that live wild outdoors are called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wild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kinds of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wild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fo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saw many kinds of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wild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we went cam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ildlif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wildlife-ma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990720"/>
            <a:ext cx="2209680" cy="1581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australian-wildlife-pictures-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990720"/>
            <a:ext cx="2209680" cy="1596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wildlife_bald_eag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759800" y="990720"/>
            <a:ext cx="1117440" cy="167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wildlife-photos_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438280" y="5181480"/>
            <a:ext cx="2057400" cy="136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6" descr="CPT%2520Little%2520Karoo%2520Oudtshoorn%2520Cango%2520Wildlife%2520Ranch%2520Cheetahland%2520lion%2520b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00400" y="3048120"/>
            <a:ext cx="2819520" cy="1822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kerala-wildlife-squirel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48320" y="5181480"/>
            <a:ext cx="2133360" cy="1389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wildlife_info_page_photo-05-larg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04920" y="3052800"/>
            <a:ext cx="2819160" cy="1819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poland_wildlife_a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858000" y="5183280"/>
            <a:ext cx="2048040" cy="1360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4" descr="wildlife-photo-polar-bear_29386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172200" y="3048120"/>
            <a:ext cx="2743200" cy="1822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6" descr="wildlife-red-fox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04920" y="5195880"/>
            <a:ext cx="2057400" cy="1366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8" descr="young-african-wildlife-safari-2-young-giraffe-w-michael-poliza-b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181480" y="990720"/>
            <a:ext cx="23623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ing With M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657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re going to listen to a song about camping and looking at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quil N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lis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7" descr="Tranquil Nights"/>
          <p:cNvPicPr/>
          <p:nvPr/>
        </p:nvPicPr>
        <p:blipFill>
          <a:blip r:embed="rId1"/>
          <a:srcRect l="1577" t="0" r="0" b="9417"/>
          <a:stretch/>
        </p:blipFill>
        <p:spPr>
          <a:xfrm>
            <a:off x="4191120" y="228600"/>
            <a:ext cx="47275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onsonant Ble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b 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w 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do you know about the consonants at the end of these wo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y we’ll learn about consonant letters whose sounds are blended together in w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Small Group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Tim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onsonant Ble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tr u 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word begins with two consonants and ends with two conson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have to blend two consonant sounds together to read the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can also blend words by saying the sounds before the vowel together, saying the sounds of all the rest of the letters together, and then blending the two chun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onsonant Ble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pr - 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word begins with three conson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have to blend the sounds of all three consonants together to read the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onsonant Ble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657600" y="1219320"/>
            <a:ext cx="2209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lu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m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i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cru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onsonant Ble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7600" y="1219320"/>
            <a:ext cx="2209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u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r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pl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am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r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102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Making Word</a:t>
            </a:r>
            <a:br>
              <a:rPr sz="4400"/>
            </a:b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 Letter Ti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228600" y="175248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b - c - d -  f - l - m - n - p - r - s -  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rd Read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971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u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81120" y="1600200"/>
            <a:ext cx="2590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l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410080" y="1600200"/>
          <a:ext cx="3200400" cy="419112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57200" y="1143000"/>
          <a:ext cx="4572000" cy="52005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ffcc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p             mas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p            tw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             breez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            st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ve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brow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   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tra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p   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kelet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Verdana"/>
              </a:rPr>
              <a:t>Word Family Word – not</a:t>
            </a:r>
            <a:br>
              <a:rPr sz="4000"/>
            </a:br>
            <a:r>
              <a:rPr b="0" lang="en-US" sz="1400" spc="-1" strike="noStrike" u="sng">
                <a:solidFill>
                  <a:srgbClr val="00ffcc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914400" y="1228680"/>
          <a:ext cx="6740640" cy="4559400"/>
        </p:xfrm>
        <a:graphic>
          <a:graphicData uri="http://schemas.openxmlformats.org/drawingml/2006/table">
            <a:tbl>
              <a:tblPr/>
              <a:tblGrid>
                <a:gridCol w="2590920"/>
                <a:gridCol w="1903320"/>
                <a:gridCol w="2246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k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p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p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Verdana"/>
              </a:rPr>
              <a:t>Word Family Word – no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cot%2520COVER%2520JESSIE%2520MAHAN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1905120" cy="1425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TieOutlinePolkaDot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60960" y="3962520"/>
            <a:ext cx="711360" cy="1295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Pegaso_Bell_Pot-Lar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62720" y="1600200"/>
            <a:ext cx="1257120" cy="1246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TinyTotArtBestCop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86600" y="1600200"/>
            <a:ext cx="1552680" cy="1289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Kno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666880" y="1600200"/>
            <a:ext cx="105408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5" descr="ink-blot-thumb184684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962520" y="16002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7" descr="blood-clot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057400" y="4038480"/>
            <a:ext cx="1523880" cy="1140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9" descr="3079839037_80be7e8e27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886200" y="4038480"/>
            <a:ext cx="1905120" cy="1098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1" descr="pci_slot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57200" y="4038480"/>
            <a:ext cx="1257480" cy="1152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3" descr="MorganYR-trot-cute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086600" y="3962520"/>
            <a:ext cx="1581120" cy="11682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24"/>
          <p:cNvSpPr/>
          <p:nvPr/>
        </p:nvSpPr>
        <p:spPr>
          <a:xfrm>
            <a:off x="1092600" y="312408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7"/>
          <p:cNvSpPr/>
          <p:nvPr/>
        </p:nvSpPr>
        <p:spPr>
          <a:xfrm>
            <a:off x="2774520" y="289548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8"/>
          <p:cNvSpPr/>
          <p:nvPr/>
        </p:nvSpPr>
        <p:spPr>
          <a:xfrm>
            <a:off x="4144680" y="289548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9"/>
          <p:cNvSpPr/>
          <p:nvPr/>
        </p:nvSpPr>
        <p:spPr>
          <a:xfrm>
            <a:off x="5815080" y="28954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30"/>
          <p:cNvSpPr/>
          <p:nvPr/>
        </p:nvSpPr>
        <p:spPr>
          <a:xfrm>
            <a:off x="7484760" y="2895480"/>
            <a:ext cx="6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31"/>
          <p:cNvSpPr/>
          <p:nvPr/>
        </p:nvSpPr>
        <p:spPr>
          <a:xfrm>
            <a:off x="644760" y="5257800"/>
            <a:ext cx="8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2393640" y="5257800"/>
            <a:ext cx="8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33"/>
          <p:cNvSpPr/>
          <p:nvPr/>
        </p:nvSpPr>
        <p:spPr>
          <a:xfrm>
            <a:off x="4449600" y="518148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6043680" y="52578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35"/>
          <p:cNvSpPr/>
          <p:nvPr/>
        </p:nvSpPr>
        <p:spPr>
          <a:xfrm>
            <a:off x="7566840" y="518148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Verdana"/>
              </a:rPr>
              <a:t>Word Family Word – thing</a:t>
            </a:r>
            <a:br>
              <a:rPr sz="4000"/>
            </a:br>
            <a:r>
              <a:rPr b="0" lang="en-US" sz="1400" spc="-1" strike="noStrike" u="sng">
                <a:solidFill>
                  <a:srgbClr val="00ffcc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914400" y="1228680"/>
          <a:ext cx="6740640" cy="4681440"/>
        </p:xfrm>
        <a:graphic>
          <a:graphicData uri="http://schemas.openxmlformats.org/drawingml/2006/table">
            <a:tbl>
              <a:tblPr/>
              <a:tblGrid>
                <a:gridCol w="2590920"/>
                <a:gridCol w="1903320"/>
                <a:gridCol w="2246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k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z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t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w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t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w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4040" y="1523520"/>
            <a:ext cx="3306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7"/>
              </a:rPr>
              <a:t>Spelling City – Vocabulary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8"/>
              </a:rPr>
              <a:t>Spelling City – Amazing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16400" y="1523520"/>
            <a:ext cx="3470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lling Wor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gh Frequency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13"/>
              </a:rPr>
              <a:t>Fill-in-the Blank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14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15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Verdana"/>
              </a:rPr>
              <a:t>Word Family Word – thing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5" descr="large_k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1828800" cy="1353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king-cobr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14600" y="1600200"/>
            <a:ext cx="1981080" cy="1366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designer-engagement-ri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4280" y="1600200"/>
            <a:ext cx="1638360" cy="1378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vulture_wi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05720" y="1600200"/>
            <a:ext cx="1942920" cy="1387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l_Instructions_Wrin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09680" y="3962520"/>
            <a:ext cx="1791000" cy="1342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5" descr="blin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57200" y="3581280"/>
            <a:ext cx="1320840" cy="1981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7" descr="panda-black-leaf-baby-slin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876920" y="3657600"/>
            <a:ext cx="1315800" cy="1981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9" descr="Polyester_Strin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858000" y="3886200"/>
            <a:ext cx="1819440" cy="136044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20"/>
          <p:cNvSpPr/>
          <p:nvPr/>
        </p:nvSpPr>
        <p:spPr>
          <a:xfrm>
            <a:off x="7146360" y="525780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5410080" y="571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5008680" y="556272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2499120" y="5410080"/>
            <a:ext cx="12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4"/>
          <p:cNvSpPr/>
          <p:nvPr/>
        </p:nvSpPr>
        <p:spPr>
          <a:xfrm>
            <a:off x="584640" y="5562720"/>
            <a:ext cx="11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7292520" y="3048120"/>
            <a:ext cx="11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5068080" y="29718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7"/>
          <p:cNvSpPr/>
          <p:nvPr/>
        </p:nvSpPr>
        <p:spPr>
          <a:xfrm>
            <a:off x="2383920" y="2971800"/>
            <a:ext cx="209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k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b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8"/>
          <p:cNvSpPr/>
          <p:nvPr/>
        </p:nvSpPr>
        <p:spPr>
          <a:xfrm>
            <a:off x="803160" y="2895480"/>
            <a:ext cx="9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et’s Talk About </a:t>
            </a:r>
            <a:br>
              <a:rPr sz="5400"/>
            </a:br>
            <a:r>
              <a:rPr b="0" lang="en-US" sz="5400" spc="-1" strike="noStrike">
                <a:solidFill>
                  <a:srgbClr val="00ffcc"/>
                </a:solidFill>
                <a:latin typeface="Arial"/>
              </a:rPr>
              <a:t>Exploration!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Student Pages"/>
          <p:cNvPicPr/>
          <p:nvPr/>
        </p:nvPicPr>
        <p:blipFill>
          <a:blip r:embed="rId1"/>
          <a:stretch/>
        </p:blipFill>
        <p:spPr>
          <a:xfrm>
            <a:off x="152280" y="317520"/>
            <a:ext cx="883944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aracter and Set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s are the people or animals in st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 describe their characters.  They tell what the characters look like, how they act, and how they think.  They also tell about the setting, or where the story takes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ing about characters and setting can help a reader better understand a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Read Aloud </a:t>
            </a: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a Little Pat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 saw a bird’s nesst in a tre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We saw a bird’s nest in a tre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nt on a camping tri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We went on a camping trip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Grammar:  Predic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Predicates  tell what the subject of the sentence did. Every sentence must have a predic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iked up a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hiked up a mount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ail was h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ail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was h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climbed up and 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climbed up and 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Grammar:  Predic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dad helped me a litt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dad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helped me a litt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iew at the top was gr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iew at the top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was gre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enjoyed that h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enjoyed that hik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dad carried a backp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dad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carried a backpa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gave me a sn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gave me a sn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onant Bl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 and S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 we will read about a family that explores nature by going cam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 activities that mak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feel tranquil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895480" y="1447920"/>
          <a:ext cx="3657600" cy="520056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qu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ldlif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nea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ct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cina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m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a boy and his dog who explore nature on a camping trip.  What do people do when they camp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a boy and his dog who explore nature on a camping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ri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What do people do when they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cam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mazing wor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onant blen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 and sett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 and fix up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words,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905120" y="2819520"/>
          <a:ext cx="6095880" cy="2262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5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underneat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un – der - n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put a book under your chair, you can say the book is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undernea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r cha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ocks are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undernea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y pajamas in the top dra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y lunchbox, I have an apple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undernea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y sandwi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identif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i -  den - ti- f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identif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mething, you tell what it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ags on a dog’s collar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identif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dog’s ow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ut my name on my lunchbox to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identif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detecti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de - tec - 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detec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person who tries to solve a mystery or figure out a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a word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detec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you figure out what a word me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ice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detec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igures out who is responsible for a cr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sonant Ble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read this word because you know how to read words with consonant blends.  What sounds do the letters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nd for in this wor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come to a new word, look at the letters from left to right and think about the so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y the sounds in the word to yourself and then read the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Sing With Me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re going to listen to a so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e’s Cr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lis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6" descr="Phonics Songs and Rhymes Chart 3"/>
          <p:cNvPicPr/>
          <p:nvPr/>
        </p:nvPicPr>
        <p:blipFill>
          <a:blip r:embed="rId1"/>
          <a:stretch/>
        </p:blipFill>
        <p:spPr>
          <a:xfrm>
            <a:off x="4319640" y="228600"/>
            <a:ext cx="457524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Consonant Blends: </a:t>
            </a:r>
            <a:br>
              <a:rPr sz="4000"/>
            </a:b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Find the words in “Nature’s Creatures” that have consonant blends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276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r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flo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r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bluebi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creec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g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roa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fro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nak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tretch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819520" y="1600200"/>
          <a:ext cx="3657600" cy="432288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3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ivere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oole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tern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uggle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14600" y="1752480"/>
          <a:ext cx="4114800" cy="461484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ffcc"/>
                          </a:solidFill>
                          <a:uFillTx/>
                          <a:latin typeface="Arial"/>
                          <a:hlinkClick r:id="rId2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t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n’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i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Rectangle 15"/>
          <p:cNvSpPr/>
          <p:nvPr/>
        </p:nvSpPr>
        <p:spPr>
          <a:xfrm>
            <a:off x="6095880" y="19051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410080" y="1600200"/>
          <a:ext cx="3200400" cy="419112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457200" y="1143000"/>
          <a:ext cx="4572000" cy="52005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ffcc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p             mas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p            tw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             breez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            st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ve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brow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   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tra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p   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kelet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Verdana"/>
              </a:rPr>
              <a:t>Word Family Word – snap</a:t>
            </a:r>
            <a:br>
              <a:rPr sz="4000"/>
            </a:br>
            <a:r>
              <a:rPr b="0" lang="en-US" sz="1400" spc="-1" strike="noStrike" u="sng">
                <a:solidFill>
                  <a:srgbClr val="00ffcc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066680" y="990720"/>
          <a:ext cx="6740640" cy="5364000"/>
        </p:xfrm>
        <a:graphic>
          <a:graphicData uri="http://schemas.openxmlformats.org/drawingml/2006/table">
            <a:tbl>
              <a:tblPr/>
              <a:tblGrid>
                <a:gridCol w="2590920"/>
                <a:gridCol w="1903320"/>
                <a:gridCol w="2246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8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y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z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h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wr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l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l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cr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l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tr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Verdana"/>
              </a:rPr>
              <a:t>Word Family Word – snap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5" descr="C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world-ma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1600200"/>
            <a:ext cx="3047760" cy="19828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" descr="resize_of_sap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10280" y="1600200"/>
            <a:ext cx="1636920" cy="20574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1" descr="egg-wrap-su-642319-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62520" y="419112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3" descr="Snap_Button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28800" y="41911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5" descr="beaver-watch-straps_WT-S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72200" y="4191120"/>
            <a:ext cx="1486080" cy="14857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6"/>
          <p:cNvSpPr/>
          <p:nvPr/>
        </p:nvSpPr>
        <p:spPr>
          <a:xfrm>
            <a:off x="1111320" y="358128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4070520" y="3581280"/>
            <a:ext cx="9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7502760" y="36576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9"/>
          <p:cNvSpPr/>
          <p:nvPr/>
        </p:nvSpPr>
        <p:spPr>
          <a:xfrm>
            <a:off x="2101680" y="5638680"/>
            <a:ext cx="9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n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0"/>
          <p:cNvSpPr/>
          <p:nvPr/>
        </p:nvSpPr>
        <p:spPr>
          <a:xfrm>
            <a:off x="4312440" y="563868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r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1"/>
          <p:cNvSpPr/>
          <p:nvPr/>
        </p:nvSpPr>
        <p:spPr>
          <a:xfrm>
            <a:off x="6445080" y="5638680"/>
            <a:ext cx="10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r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sonant Blend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top to ask about the st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as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bout 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t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eeze blew the nest into the stre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breez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ble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n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o 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trea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twin put on the mas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tw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ut on 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mas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aracter and Set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s are the people or animals in st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 describe their characters.  They tell what the characters look like, how they act, and how they think.  They also tell about the setting, or where the story takes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ing about characters and setting can help a reader better understand a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 the characters and identify the setting in some stories we r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nitor and Fix U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you may have questions while you are rea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is happens, you should keep reading to see if you discover the answ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yourself questions as you read so you will understand what you are rea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igh Frequenc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276360" y="1600200"/>
            <a:ext cx="2895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n’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410080" y="1600200"/>
          <a:ext cx="3200400" cy="419112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57200" y="1143000"/>
          <a:ext cx="4572000" cy="52005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ffcc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p             mas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p            tw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             breez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            st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ve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brow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   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tra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p   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kelet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gh-Frequency Word Chec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047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autif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i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ldn’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a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igword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ivered – shook with fe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ooled – let saliva run from the mou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lanter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lights inside containers that can be carri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snuggl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cuddled toget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(next sli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lanter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9" descr="l-lanter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1600200"/>
            <a:ext cx="3047760" cy="2025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1" descr="pr_hou_lanterns_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00800" y="1600200"/>
            <a:ext cx="2238480" cy="22384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3" descr="Hurricane_Lanterns_Replacement_Glass_Globe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" y="404964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5" descr="6951777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172200" y="3921120"/>
            <a:ext cx="2552760" cy="22035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7" descr="WhiteIvoryGlassLantern1037437_bi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57200" y="1600200"/>
            <a:ext cx="2289240" cy="23623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9" descr="asian_lanterns_250x25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276720" y="38098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snuggl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7" descr="snuggl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2743200" cy="20908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9" descr="snuggle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52680" y="1600200"/>
            <a:ext cx="2743200" cy="1785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1" descr="snuggled%2520under%2520mom%27s%2520chin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24480" y="1600200"/>
            <a:ext cx="2371680" cy="1782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7" descr="Snuggled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95480" y="3733920"/>
            <a:ext cx="3105360" cy="2340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9" descr="brandy%2520snuggled%2520in%2520warm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57200" y="4038480"/>
            <a:ext cx="2286000" cy="1722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1" descr="snuggled-up-2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095880" y="3962520"/>
            <a:ext cx="2552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my friend and I slept in my backyard, I got so cold I 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my friend and I slept in my backyard, I got so cold I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hive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____ with my dog Ben to keep wa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nuggl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my dog Ben to keep wa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____ on me, but I didn’t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drool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me, but I didn’t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s glad we both had ____ so it wasn’t so da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s glad we both had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lanter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it wasn’t so da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0" y="3805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nice breez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A nice breeze fanned our fac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y dad and 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My dad and I went hikin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Grammar:  Predic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Predicates  tell what the subject of the sentence did.  Every sentence must have a predic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and Mudge went cam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and Mudge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went camp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ir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irl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rides her bi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wo bo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wo boys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play cat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Frequenc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 and Fix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 we will hear about forest anim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what you migh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 and feel while camping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side overnight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8880" y="990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ig Question:</a:t>
            </a:r>
            <a:br>
              <a:rPr sz="4000"/>
            </a:b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What can we discover by exploring nature?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05320" y="2666880"/>
            <a:ext cx="5263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are many things to learn about the forest.   Some animals and plants look different close-up and far away.  What else can we discover by exploring nature in the fores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are many things to learn about the forest.   Some animals and plants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look different close-up and far away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What else can we discover by exploring nature in the fores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vowels CVC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s with consonant blen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,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905120" y="2819520"/>
          <a:ext cx="6095880" cy="2262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5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fascin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fas – ci – nat - 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that is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fascina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very interest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read about a girl who found insects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fascina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read a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fascina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ook about eleph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slim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lim - 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slim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els slippery and gooey when you touch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eople think snakes feel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slim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ut they really don’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ud at the bottom of the river felt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slim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my f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2895480" y="1447920"/>
          <a:ext cx="3657600" cy="520056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qu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ldlif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nea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ct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cina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m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040" y="198108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Making Words Worksheet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igh Frequency Words</a:t>
            </a:r>
            <a:br>
              <a:rPr sz="4000"/>
            </a:b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ot Potatoes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36196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i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uldn’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a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 are the high frequency words in each sente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mother and father took me camp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moth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fath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ok me cam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s afraid we would see a b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s afraid we would see a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be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00200" y="2133720"/>
          <a:ext cx="6095880" cy="38955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9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can learn about animals everywhere in the world.  We can learn how stars move in the sky.  What else can we discover by exploring natur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15"/>
          <p:cNvSpPr/>
          <p:nvPr/>
        </p:nvSpPr>
        <p:spPr>
          <a:xfrm>
            <a:off x="31240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What are the high frequency words in each sent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ouldn’t believe that my mom could build a f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couldn’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lieve that my mom could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bui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f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ent straight home after we cam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ent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trai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ome after we cam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5410080" y="1600200"/>
          <a:ext cx="3200400" cy="419112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457200" y="1143000"/>
          <a:ext cx="4572000" cy="52005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ffcc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p             mas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p            tw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             breez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            st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ve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brow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   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tra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p              </a:t>
                      </a:r>
                      <a:r>
                        <a:rPr b="1" lang="en-US" sz="32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kelet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Verdana"/>
              </a:rPr>
              <a:t>Word Family Word – junk</a:t>
            </a:r>
            <a:br>
              <a:rPr sz="4000"/>
            </a:br>
            <a:r>
              <a:rPr b="0" lang="en-US" sz="1400" spc="-1" strike="noStrike" u="sng">
                <a:solidFill>
                  <a:srgbClr val="00ffcc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914400" y="1228680"/>
          <a:ext cx="6740640" cy="4998960"/>
        </p:xfrm>
        <a:graphic>
          <a:graphicData uri="http://schemas.openxmlformats.org/drawingml/2006/table">
            <a:tbl>
              <a:tblPr/>
              <a:tblGrid>
                <a:gridCol w="2590920"/>
                <a:gridCol w="1903320"/>
                <a:gridCol w="2246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p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k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p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Verdana"/>
              </a:rPr>
              <a:t>Word Family Word – junk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10-4100%252520bun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1600200" cy="1531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lwblog-jun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1600200"/>
            <a:ext cx="2209680" cy="14590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9" descr="punk_s_not_dead_movie_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0600" y="1600200"/>
            <a:ext cx="1905120" cy="14256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Toffee%2520Bar%2520Chunk%2520Cookie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86600" y="1600200"/>
            <a:ext cx="1590840" cy="1352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3" descr="skunkbabie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" y="4038480"/>
            <a:ext cx="1828800" cy="13780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5" descr="trunk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819520" y="4038480"/>
            <a:ext cx="1752480" cy="1320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7" descr="Circa%25201850s%2520Gold%2520Rush%2520Stagecoach%2520Trunk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0" y="3962520"/>
            <a:ext cx="1847880" cy="13921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9" descr="elephant%2520trunk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105520" y="3962520"/>
            <a:ext cx="1447560" cy="139356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20"/>
          <p:cNvSpPr/>
          <p:nvPr/>
        </p:nvSpPr>
        <p:spPr>
          <a:xfrm>
            <a:off x="609480" y="3200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21"/>
          <p:cNvSpPr/>
          <p:nvPr/>
        </p:nvSpPr>
        <p:spPr>
          <a:xfrm>
            <a:off x="2937240" y="3124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22"/>
          <p:cNvSpPr/>
          <p:nvPr/>
        </p:nvSpPr>
        <p:spPr>
          <a:xfrm>
            <a:off x="5294520" y="30481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23"/>
          <p:cNvSpPr/>
          <p:nvPr/>
        </p:nvSpPr>
        <p:spPr>
          <a:xfrm>
            <a:off x="7286040" y="3048120"/>
            <a:ext cx="11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4"/>
          <p:cNvSpPr/>
          <p:nvPr/>
        </p:nvSpPr>
        <p:spPr>
          <a:xfrm>
            <a:off x="735840" y="54864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k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3160080" y="541008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28"/>
          <p:cNvSpPr/>
          <p:nvPr/>
        </p:nvSpPr>
        <p:spPr>
          <a:xfrm>
            <a:off x="5293800" y="541008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29"/>
          <p:cNvSpPr/>
          <p:nvPr/>
        </p:nvSpPr>
        <p:spPr>
          <a:xfrm>
            <a:off x="7198560" y="541008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sonant Blends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ffcc"/>
                </a:solidFill>
                <a:latin typeface="Arial"/>
              </a:rPr>
              <a:t>Find the spelling words that rhyme with these words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047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nee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Vocabulary:  Synonyms</a:t>
            </a:r>
            <a:br>
              <a:rPr sz="40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Which vocabulary words means the same as the underlined word?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He </a:t>
            </a: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</a:rPr>
              <a:t>shook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 and put an arm around Mudg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Henry unpacked the food and pans and </a:t>
            </a: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</a:rPr>
              <a:t>lights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Henry’s father and mother </a:t>
            </a: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</a:rPr>
              <a:t>cuddled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stap on my backpac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The strap on my backpack brok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at stem of wat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That stream of water was col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Grammar:  Predicates</a:t>
            </a:r>
            <a:br>
              <a:rPr sz="4000"/>
            </a:br>
            <a:br>
              <a:rPr sz="2400"/>
            </a:b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Predicates  tell what the subject of the sentence did.</a:t>
            </a:r>
            <a:br>
              <a:rPr sz="40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day I found a baby bird on the sidewal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day I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found a baby bird on the sidewal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looked up and saw the bird’s nest in a tr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looked up and saw the bird’s nest in a tr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by must have fallen out of the n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by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must have fallen out of the n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 and s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with accuracy and appropriate pace/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 we will read about some people who think stars make pictures in the night sk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synonyms in pairs of sentences about going camping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2-08-27T00:42:41Z</dcterms:modified>
  <cp:revision>31</cp:revision>
  <dc:subject/>
  <dc:title>Slide 1</dc:title>
</cp:coreProperties>
</file>